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57.wmf" ContentType="image/x-wmf"/>
  <Override PartName="/ppt/media/image14.jpeg" ContentType="image/jpeg"/>
  <Override PartName="/ppt/media/image56.wmf" ContentType="image/x-wmf"/>
  <Override PartName="/ppt/media/image54.wmf" ContentType="image/x-wmf"/>
  <Override PartName="/ppt/media/image53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13.jpeg" ContentType="image/jpeg"/>
  <Override PartName="/ppt/media/image46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29.wmf" ContentType="image/x-wmf"/>
  <Override PartName="/ppt/media/image68.png" ContentType="image/png"/>
  <Override PartName="/ppt/media/image70.png" ContentType="image/png"/>
  <Override PartName="/ppt/media/image1.wmf" ContentType="image/x-wmf"/>
  <Override PartName="/ppt/media/image31.wmf" ContentType="image/x-wmf"/>
  <Override PartName="/ppt/media/image74.png" ContentType="image/png"/>
  <Override PartName="/ppt/media/image16.jpeg" ContentType="image/jpeg"/>
  <Override PartName="/ppt/media/image35.wmf" ContentType="image/x-wmf"/>
  <Override PartName="/ppt/media/image17.jpeg" ContentType="image/jpeg"/>
  <Override PartName="/ppt/media/image45.wmf" ContentType="image/x-wmf"/>
  <Override PartName="/ppt/media/image26.png" ContentType="image/png"/>
  <Override PartName="/ppt/media/image18.jpeg" ContentType="image/jpeg"/>
  <Override PartName="/ppt/media/image55.wmf" ContentType="image/x-wmf"/>
  <Override PartName="/ppt/media/image71.png" ContentType="image/png"/>
  <Override PartName="/ppt/media/image21.jpeg" ContentType="image/jpeg"/>
  <Override PartName="/ppt/media/image65.png" ContentType="image/png"/>
  <Override PartName="/ppt/media/image12.png" ContentType="image/png"/>
  <Override PartName="/ppt/media/image24.jpeg" ContentType="image/jpeg"/>
  <Override PartName="/ppt/media/image52.wmf" ContentType="image/x-wmf"/>
  <Override PartName="/ppt/media/image72.png" ContentType="image/png"/>
  <Override PartName="/ppt/media/image3.wmf" ContentType="image/x-wmf"/>
  <Override PartName="/ppt/media/image69.png" ContentType="image/png"/>
  <Override PartName="/ppt/media/image62.wmf" ContentType="image/x-wmf"/>
  <Override PartName="/ppt/media/image25.jpeg" ContentType="image/jpeg"/>
  <Override PartName="/ppt/media/image67.png" ContentType="image/png"/>
  <Override PartName="/ppt/media/image28.wmf" ContentType="image/x-wmf"/>
  <Override PartName="/ppt/media/image66.png" ContentType="image/png"/>
  <Override PartName="/ppt/media/image27.wmf" ContentType="image/x-wmf"/>
  <Override PartName="/ppt/media/image64.wmf" ContentType="image/x-wmf"/>
  <Override PartName="/ppt/media/image63.wmf" ContentType="image/x-wmf"/>
  <Override PartName="/ppt/media/image61.wmf" ContentType="image/x-wmf"/>
  <Override PartName="/ppt/media/image60.wmf" ContentType="image/x-wmf"/>
  <Override PartName="/ppt/media/image19.jpeg" ContentType="image/jpeg"/>
  <Override PartName="/ppt/media/image11.png" ContentType="image/png"/>
  <Override PartName="/ppt/media/image51.wmf" ContentType="image/x-wmf"/>
  <Override PartName="/ppt/media/image15.jpeg" ContentType="image/jpeg"/>
  <Override PartName="/ppt/media/image33.wmf" ContentType="image/x-wmf"/>
  <Override PartName="/ppt/media/image76.png" ContentType="image/png"/>
  <Override PartName="/ppt/media/image4.wmf" ContentType="image/x-wmf"/>
  <Override PartName="/ppt/media/image34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50.wmf" ContentType="image/x-wmf"/>
  <Override PartName="/ppt/media/image36.wmf" ContentType="image/x-wmf"/>
  <Override PartName="/ppt/media/image32.wmf" ContentType="image/x-wmf"/>
  <Override PartName="/ppt/media/image75.png" ContentType="image/png"/>
  <Override PartName="/ppt/media/image22.jpeg" ContentType="image/jpeg"/>
  <Override PartName="/ppt/media/image6.png" ContentType="image/png"/>
  <Override PartName="/ppt/media/image40.wmf" ContentType="image/x-wmf"/>
  <Override PartName="/ppt/media/image20.jpeg" ContentType="image/jpeg"/>
  <Override PartName="/ppt/media/image59.wmf" ContentType="image/x-wmf"/>
  <Override PartName="/ppt/media/image23.jpeg" ContentType="image/jpeg"/>
  <Override PartName="/ppt/media/image42.wmf" ContentType="image/x-wmf"/>
  <Override PartName="/ppt/media/image8.png" ContentType="image/png"/>
  <Override PartName="/ppt/media/image7.png" ContentType="image/png"/>
  <Override PartName="/ppt/media/image41.wmf" ContentType="image/x-wmf"/>
  <Override PartName="/ppt/media/image73.png" ContentType="image/png"/>
  <Override PartName="/ppt/media/image3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CF2-B5FB-49B7-B786-A14E9241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E4D-DEF7-4F5B-8DA2-09D03F5A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CD2-AA31-4D3E-868C-F1D4F3B7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0C7-9E3C-4B2A-9830-6BB16389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0C79-6003-4C4D-A631-20C693D3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9C74-E1DD-4B1D-B56E-DF62E5E4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E819-4BD7-4792-A3A5-746CF1CD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9913-C6D3-488F-AF11-1CB4CAA2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1F9E-69B3-4331-9789-93EE6A8D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72B9-5309-4D78-8CFD-67EB5C0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AB3F-D9BF-492D-8869-5401E51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19E-B53C-4578-A0AD-282FF29F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A8BF-8E9C-45AE-BAED-0D4B2DF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85B9-6B90-41F2-AD70-60D22F8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C377-A9FD-43F9-8D88-9B016AD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CCC7-C52C-4989-870D-936DBAA7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7E3E-BB4E-49FD-BC70-2886A208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72B-1CFF-4B0F-A932-C11EF4D8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25B-76D8-461D-B58E-CECDD80A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96E-6FF8-4293-ADDE-73D16BC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FDF-9770-45F2-A2E9-F39592C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423-BC09-43C1-BCB8-2DADF74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C65-FF62-492E-9C17-0CDB293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280-D0E6-410C-813A-BE20F4B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0D0-7073-408F-A2EC-206EB0B425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69B1-49C7-4109-AF6C-AFAC5E26AB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14.xml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6912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신규 채용자 안전교육</a:t>
            </a:r>
            <a:endParaRPr b="1" lang="en-US" sz="54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점 관리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박한호 대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"/>
          <p:cNvGrpSpPr/>
          <p:nvPr/>
        </p:nvGrpSpPr>
        <p:grpSpPr>
          <a:xfrm>
            <a:off x="468360" y="981000"/>
            <a:ext cx="2592000" cy="576360"/>
            <a:chOff x="468360" y="981000"/>
            <a:chExt cx="2592000" cy="576360"/>
          </a:xfrm>
        </p:grpSpPr>
        <p:sp>
          <p:nvSpPr>
            <p:cNvPr id="193" name="Rectangle 5"/>
            <p:cNvSpPr/>
            <p:nvPr/>
          </p:nvSpPr>
          <p:spPr>
            <a:xfrm>
              <a:off x="468360" y="981000"/>
              <a:ext cx="259200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보호구 종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4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563760" y="1020960"/>
              <a:ext cx="68508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Rectangle 7"/>
          <p:cNvSpPr/>
          <p:nvPr/>
        </p:nvSpPr>
        <p:spPr>
          <a:xfrm>
            <a:off x="1191960" y="1989000"/>
            <a:ext cx="389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머리보호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머리의 재해는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전체재해의 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13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도이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사망에 이른 경우도 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36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달하여 안전모의 착용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생명과 직결된다고 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" name="Picture 8" descr="안전모"/>
          <p:cNvPicPr/>
          <p:nvPr/>
        </p:nvPicPr>
        <p:blipFill>
          <a:blip r:embed="rId2"/>
          <a:stretch/>
        </p:blipFill>
        <p:spPr>
          <a:xfrm>
            <a:off x="6516720" y="2060640"/>
            <a:ext cx="2016000" cy="143964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sp>
        <p:nvSpPr>
          <p:cNvPr id="197" name="Rectangle 9"/>
          <p:cNvSpPr/>
          <p:nvPr/>
        </p:nvSpPr>
        <p:spPr>
          <a:xfrm>
            <a:off x="468360" y="371628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눈 보호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날아오는 물체로부터 눈을 보호하고 위험물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해광선에 의한 시력장해를 방지하기 위해 사용하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재해 중 눈이 차지하는 비율이 그리 높은 편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아니지만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뜻하지 않게 또는 자칫 실수로 영구적 실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되는 경우가 있어 보안경의 올바른 사용은 매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중요하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0" descr="보안경"/>
          <p:cNvPicPr/>
          <p:nvPr/>
        </p:nvPicPr>
        <p:blipFill>
          <a:blip r:embed="rId3"/>
          <a:stretch/>
        </p:blipFill>
        <p:spPr>
          <a:xfrm>
            <a:off x="6443640" y="4005360"/>
            <a:ext cx="2232000" cy="13539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274040" y="1923840"/>
            <a:ext cx="357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얼굴보호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강렬한 유해광선으로부터 눈을 보호하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용접시 불꽃 또는 파편에 의한 화상으로부터 얼굴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머리 혹은 목을 보호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" name="Picture 5" descr="보안면"/>
          <p:cNvPicPr/>
          <p:nvPr/>
        </p:nvPicPr>
        <p:blipFill>
          <a:blip r:embed="rId1"/>
          <a:stretch/>
        </p:blipFill>
        <p:spPr>
          <a:xfrm>
            <a:off x="6732720" y="1916280"/>
            <a:ext cx="1800000" cy="15127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grpSp>
        <p:nvGrpSpPr>
          <p:cNvPr id="201" name="Group 6"/>
          <p:cNvGrpSpPr/>
          <p:nvPr/>
        </p:nvGrpSpPr>
        <p:grpSpPr>
          <a:xfrm>
            <a:off x="468360" y="981000"/>
            <a:ext cx="2592000" cy="576360"/>
            <a:chOff x="468360" y="981000"/>
            <a:chExt cx="2592000" cy="576360"/>
          </a:xfrm>
        </p:grpSpPr>
        <p:sp>
          <p:nvSpPr>
            <p:cNvPr id="202" name="Rectangle 7"/>
            <p:cNvSpPr/>
            <p:nvPr/>
          </p:nvSpPr>
          <p:spPr>
            <a:xfrm>
              <a:off x="468360" y="981000"/>
              <a:ext cx="259200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보호구 종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563760" y="1020960"/>
              <a:ext cx="68508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9"/>
          <p:cNvSpPr/>
          <p:nvPr/>
        </p:nvSpPr>
        <p:spPr>
          <a:xfrm>
            <a:off x="1288800" y="3716640"/>
            <a:ext cx="45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귀보호구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소음이 발생하는 작업장에서 작업자의 청력을 보호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위해 사용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업장의 소음은 작업능률 저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장기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근로시 귀의 울림이 멎지 않는 직업병에 걸리거나 더 심하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아무것도 듣지 못할 정도로 청력에 손상을 입기도 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소음의 허용기준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간 작업시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90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 이상의 소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업장에서 오래 근무하면 소음성 난청이 오므로 반드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귀마개나 귀덮개를 착용해야 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Picture 10" descr="귀마개"/>
          <p:cNvPicPr/>
          <p:nvPr/>
        </p:nvPicPr>
        <p:blipFill>
          <a:blip r:embed="rId3"/>
          <a:stretch/>
        </p:blipFill>
        <p:spPr>
          <a:xfrm>
            <a:off x="6659640" y="4221000"/>
            <a:ext cx="2016000" cy="15130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95280" y="191592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호흡용 보호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산소결핍작업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분진 및 유독가스 발생 작업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신선한 공기의 공급 또는 여과를 통하여 호흡기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보호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" name="Picture 6" descr="마스크"/>
          <p:cNvPicPr/>
          <p:nvPr/>
        </p:nvPicPr>
        <p:blipFill>
          <a:blip r:embed="rId1"/>
          <a:stretch/>
        </p:blipFill>
        <p:spPr>
          <a:xfrm>
            <a:off x="6732720" y="1989000"/>
            <a:ext cx="1512720" cy="13734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grpSp>
        <p:nvGrpSpPr>
          <p:cNvPr id="208" name="Group 7"/>
          <p:cNvGrpSpPr/>
          <p:nvPr/>
        </p:nvGrpSpPr>
        <p:grpSpPr>
          <a:xfrm>
            <a:off x="468360" y="981000"/>
            <a:ext cx="2592000" cy="576360"/>
            <a:chOff x="468360" y="981000"/>
            <a:chExt cx="2592000" cy="576360"/>
          </a:xfrm>
        </p:grpSpPr>
        <p:sp>
          <p:nvSpPr>
            <p:cNvPr id="209" name="Rectangle 8"/>
            <p:cNvSpPr/>
            <p:nvPr/>
          </p:nvSpPr>
          <p:spPr>
            <a:xfrm>
              <a:off x="468360" y="981000"/>
              <a:ext cx="259200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보호구 종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10" name="Picture 9" descr="11644_30053-60578"/>
            <p:cNvPicPr/>
            <p:nvPr/>
          </p:nvPicPr>
          <p:blipFill>
            <a:blip r:embed="rId2"/>
            <a:stretch/>
          </p:blipFill>
          <p:spPr>
            <a:xfrm>
              <a:off x="563760" y="1020960"/>
              <a:ext cx="68508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Rectangle 10"/>
          <p:cNvSpPr/>
          <p:nvPr/>
        </p:nvSpPr>
        <p:spPr>
          <a:xfrm>
            <a:off x="395280" y="3903840"/>
            <a:ext cx="56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손보호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열이나 전기를 띤 물체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화학약품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무겁고 날카로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체 등에 의한 절상이나 타박상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화상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감전 등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위험으로부터 손을 보호하기 의해 손 보호구를 착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산업재해 중 손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%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손가락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 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부위가 전체 상해의 절반이 넘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좀처럼 그 비율도 줄어들지 않고 있으므로 각별한 주의가 필요하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12" descr="UNI00000be4bf8d"/>
          <p:cNvPicPr/>
          <p:nvPr/>
        </p:nvPicPr>
        <p:blipFill>
          <a:blip r:embed="rId3"/>
          <a:stretch/>
        </p:blipFill>
        <p:spPr>
          <a:xfrm>
            <a:off x="6372360" y="4076640"/>
            <a:ext cx="2160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468360" y="981000"/>
            <a:ext cx="2592000" cy="576360"/>
            <a:chOff x="468360" y="981000"/>
            <a:chExt cx="2592000" cy="576360"/>
          </a:xfrm>
        </p:grpSpPr>
        <p:sp>
          <p:nvSpPr>
            <p:cNvPr id="214" name="Rectangle 5"/>
            <p:cNvSpPr/>
            <p:nvPr/>
          </p:nvSpPr>
          <p:spPr>
            <a:xfrm>
              <a:off x="468360" y="981000"/>
              <a:ext cx="259200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보호구 종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15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563760" y="1020960"/>
              <a:ext cx="68508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7"/>
          <p:cNvSpPr/>
          <p:nvPr/>
        </p:nvSpPr>
        <p:spPr>
          <a:xfrm>
            <a:off x="324000" y="2052720"/>
            <a:ext cx="487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발 보호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체의 낙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충격 또는 날카로운 물체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한 위험이나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화학약품 등으로 부터 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보호하거나 감전 또는 정전기의 인체대전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방지하기 위해 사용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Picture 8" descr="안전화"/>
          <p:cNvPicPr/>
          <p:nvPr/>
        </p:nvPicPr>
        <p:blipFill>
          <a:blip r:embed="rId2"/>
          <a:stretch/>
        </p:blipFill>
        <p:spPr>
          <a:xfrm>
            <a:off x="6084720" y="2205000"/>
            <a:ext cx="1981440" cy="14400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218" name="Rectangle 9"/>
          <p:cNvSpPr/>
          <p:nvPr/>
        </p:nvSpPr>
        <p:spPr>
          <a:xfrm>
            <a:off x="395280" y="4005360"/>
            <a:ext cx="56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안전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업자가 추락하는 것을 방지해 주고 추락시 인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해지는 충격을 완화시켜 주는 보호구로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난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건설업에서만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명이 사망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산업재해 사망자 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훨씬 넘는 수치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중 많은 부분이 추락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고 이어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추락방지를 위해 착용하는 안전대는 작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자의 생명줄이나 마찬가지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Picture 11" descr="UNI00000be4bf93"/>
          <p:cNvPicPr/>
          <p:nvPr/>
        </p:nvPicPr>
        <p:blipFill>
          <a:blip r:embed="rId3"/>
          <a:stretch/>
        </p:blipFill>
        <p:spPr>
          <a:xfrm>
            <a:off x="6012000" y="4292640"/>
            <a:ext cx="2305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스캔0014"/>
          <p:cNvPicPr/>
          <p:nvPr/>
        </p:nvPicPr>
        <p:blipFill>
          <a:blip r:embed="rId1"/>
          <a:stretch/>
        </p:blipFill>
        <p:spPr>
          <a:xfrm>
            <a:off x="4724280" y="1905120"/>
            <a:ext cx="4284720" cy="3870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684360" y="2060640"/>
            <a:ext cx="43448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기술적으로 대책이 곤란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경우나</a:t>
            </a: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그 대책이 완성되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까지 시간이 걸리는 경우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보호구를 사용한다</a:t>
            </a: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또는 사고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위험이 있는 상태에서  긴박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작업이 필요할 때도 보호구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용한다</a:t>
            </a: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7182000" y="18900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보호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684360" y="981000"/>
            <a:ext cx="2879280" cy="576360"/>
            <a:chOff x="684360" y="981000"/>
            <a:chExt cx="2879280" cy="576360"/>
          </a:xfrm>
        </p:grpSpPr>
        <p:sp>
          <p:nvSpPr>
            <p:cNvPr id="224" name="Rectangle 6"/>
            <p:cNvSpPr/>
            <p:nvPr/>
          </p:nvSpPr>
          <p:spPr>
            <a:xfrm>
              <a:off x="684360" y="981000"/>
              <a:ext cx="287928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보호구의 필요성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5" name="Picture 7" descr="11644_30053-60578"/>
            <p:cNvPicPr/>
            <p:nvPr/>
          </p:nvPicPr>
          <p:blipFill>
            <a:blip r:embed="rId2"/>
            <a:stretch/>
          </p:blipFill>
          <p:spPr>
            <a:xfrm>
              <a:off x="790560" y="1020960"/>
              <a:ext cx="76104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684360" y="1844640"/>
            <a:ext cx="79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위험한 작업에서는 보호구의 역할이 대단히 크므로 꼭 착용하고 작업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수 있도록 준비해야 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Picture 3" descr="스캔"/>
          <p:cNvPicPr/>
          <p:nvPr/>
        </p:nvPicPr>
        <p:blipFill>
          <a:blip r:embed="rId1"/>
          <a:stretch/>
        </p:blipFill>
        <p:spPr>
          <a:xfrm>
            <a:off x="5135400" y="2868480"/>
            <a:ext cx="3500640" cy="2965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755640" y="2852640"/>
            <a:ext cx="4896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의 위험성이나 유해성에 적합한 성능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가진 보호구 선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보관장소 선정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현장에 방치 금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보호구의 수는 작업인원수에 비해 부족하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않게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손된 것은 즉시 수리 또는 교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⑤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더럽혀진 것은 반드시 손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684360" y="981000"/>
            <a:ext cx="2950560" cy="576360"/>
            <a:chOff x="684360" y="981000"/>
            <a:chExt cx="2950560" cy="576360"/>
          </a:xfrm>
        </p:grpSpPr>
        <p:sp>
          <p:nvSpPr>
            <p:cNvPr id="231" name="Rectangle 7"/>
            <p:cNvSpPr/>
            <p:nvPr/>
          </p:nvSpPr>
          <p:spPr>
            <a:xfrm>
              <a:off x="684360" y="981000"/>
              <a:ext cx="295056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보호구착용 철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2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793080" y="1020960"/>
              <a:ext cx="78012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84360" y="1844640"/>
            <a:ext cx="792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건강하게 일하고 또한 작업중 사고를 일으키지 않기 위해서는 정해 놓은 안전 준수사항을 확실히 지키며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다음 사항에 유의하여야 한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55640" y="2852640"/>
            <a:ext cx="47530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전에 기계공구는 꼭 점검하고 이상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있는 것은 사용금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을 위해 항상 주위를 정리정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공동작업에서는 연락신호를 확실하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상을 발견하면 반드시 기계를 정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⑤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순서 준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5" name="Picture 4" descr="안전수칙"/>
          <p:cNvPicPr/>
          <p:nvPr/>
        </p:nvPicPr>
        <p:blipFill>
          <a:blip r:embed="rId1"/>
          <a:stretch/>
        </p:blipFill>
        <p:spPr>
          <a:xfrm>
            <a:off x="5867280" y="2637000"/>
            <a:ext cx="2806920" cy="3600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684360" y="981000"/>
            <a:ext cx="2592000" cy="576360"/>
            <a:chOff x="684360" y="981000"/>
            <a:chExt cx="2592000" cy="576360"/>
          </a:xfrm>
        </p:grpSpPr>
        <p:sp>
          <p:nvSpPr>
            <p:cNvPr id="238" name="Rectangle 7"/>
            <p:cNvSpPr/>
            <p:nvPr/>
          </p:nvSpPr>
          <p:spPr>
            <a:xfrm>
              <a:off x="684360" y="981000"/>
              <a:ext cx="259200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안전수칙준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9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779760" y="1020960"/>
              <a:ext cx="68508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84360" y="1916280"/>
            <a:ext cx="79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안전작업은 우선 복장으로부터라고 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정한 복장은 몸도 마음도 빈틈없게 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826920" y="2924280"/>
            <a:ext cx="482472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복은 깨끗한 것을 착용하고 더러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옷이나 찢어짐 옷은 착용금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목에다 수건을 걸치거나 허리에 수건착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금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머리카락이 기계에 말려들 위험이 있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장에서는 모자 착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팔소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옷깃 등을 단정하게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필요에 따라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장갑이나 발커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2" name="Picture 4" descr="스캔"/>
          <p:cNvPicPr/>
          <p:nvPr/>
        </p:nvPicPr>
        <p:blipFill>
          <a:blip r:embed="rId1"/>
          <a:stretch/>
        </p:blipFill>
        <p:spPr>
          <a:xfrm>
            <a:off x="5210280" y="3014640"/>
            <a:ext cx="3362400" cy="26258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684360" y="981000"/>
            <a:ext cx="2663280" cy="576360"/>
            <a:chOff x="684360" y="981000"/>
            <a:chExt cx="2663280" cy="576360"/>
          </a:xfrm>
        </p:grpSpPr>
        <p:sp>
          <p:nvSpPr>
            <p:cNvPr id="245" name="Rectangle 7"/>
            <p:cNvSpPr/>
            <p:nvPr/>
          </p:nvSpPr>
          <p:spPr>
            <a:xfrm>
              <a:off x="684360" y="981000"/>
              <a:ext cx="266328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작업복장 단정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46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782280" y="1020960"/>
              <a:ext cx="70416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684360" y="1844640"/>
            <a:ext cx="806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작업장의 안전은 정리정돈으로 시작해서 정리정돈으로 끝이 난다고 해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과언이 아니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정리정돈이 안되면 걸려 넘어지거나 공구가 떨어지거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물건이 무너지거나 해서 사고가 발생하게 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26920" y="3284640"/>
            <a:ext cx="40323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정리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필요한 것과 불필요한 것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분류해서 불필요한 것은 빨리 처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하는 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정돈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필요한 것을 정해진 장소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사용하기 쉽고 취급하기 용이하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는 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스캔1"/>
          <p:cNvPicPr/>
          <p:nvPr/>
        </p:nvPicPr>
        <p:blipFill>
          <a:blip r:embed="rId1"/>
          <a:stretch/>
        </p:blipFill>
        <p:spPr>
          <a:xfrm>
            <a:off x="4462560" y="2941560"/>
            <a:ext cx="4147920" cy="28893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1" name="Group 6"/>
          <p:cNvGrpSpPr/>
          <p:nvPr/>
        </p:nvGrpSpPr>
        <p:grpSpPr>
          <a:xfrm>
            <a:off x="684360" y="981000"/>
            <a:ext cx="2879280" cy="576360"/>
            <a:chOff x="684360" y="981000"/>
            <a:chExt cx="2879280" cy="576360"/>
          </a:xfrm>
        </p:grpSpPr>
        <p:sp>
          <p:nvSpPr>
            <p:cNvPr id="252" name="Rectangle 7"/>
            <p:cNvSpPr/>
            <p:nvPr/>
          </p:nvSpPr>
          <p:spPr>
            <a:xfrm>
              <a:off x="684360" y="981000"/>
              <a:ext cx="287928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정리정돈 생활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3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790560" y="1020960"/>
              <a:ext cx="76104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11280" y="1916280"/>
            <a:ext cx="799308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무거운 것과 큰 것은 아래에</a:t>
            </a: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가벼운 것과 작은 것은 위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쌓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긴 물건은 우물정자로 쌓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작은 물건은 상자나 용기에 넣어 수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자주 사용하는 물건은 가까운 곳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목재 등 둥근 물건은 고임목 설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684360" y="981000"/>
            <a:ext cx="2663280" cy="576360"/>
            <a:chOff x="684360" y="981000"/>
            <a:chExt cx="2663280" cy="576360"/>
          </a:xfrm>
        </p:grpSpPr>
        <p:sp>
          <p:nvSpPr>
            <p:cNvPr id="257" name="Rectangle 5"/>
            <p:cNvSpPr/>
            <p:nvPr/>
          </p:nvSpPr>
          <p:spPr>
            <a:xfrm>
              <a:off x="684360" y="981000"/>
              <a:ext cx="266328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물건 정돈 방법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8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782280" y="1020960"/>
              <a:ext cx="704160" cy="53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" name="Picture 7" descr="정리정돈"/>
          <p:cNvPicPr/>
          <p:nvPr/>
        </p:nvPicPr>
        <p:blipFill>
          <a:blip r:embed="rId2"/>
          <a:stretch/>
        </p:blipFill>
        <p:spPr>
          <a:xfrm>
            <a:off x="1258920" y="4221000"/>
            <a:ext cx="2663640" cy="1943280"/>
          </a:xfrm>
          <a:prstGeom prst="rect">
            <a:avLst/>
          </a:prstGeom>
          <a:ln w="25560">
            <a:solidFill>
              <a:srgbClr val="7e9ce8"/>
            </a:solidFill>
            <a:miter/>
          </a:ln>
        </p:spPr>
      </p:pic>
      <p:pic>
        <p:nvPicPr>
          <p:cNvPr id="260" name="Picture 8" descr="SDC80002"/>
          <p:cNvPicPr/>
          <p:nvPr/>
        </p:nvPicPr>
        <p:blipFill>
          <a:blip r:embed="rId3"/>
          <a:stretch/>
        </p:blipFill>
        <p:spPr>
          <a:xfrm>
            <a:off x="4859280" y="4221000"/>
            <a:ext cx="2664000" cy="1960560"/>
          </a:xfrm>
          <a:prstGeom prst="rect">
            <a:avLst/>
          </a:prstGeom>
          <a:ln w="2556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547640" y="1773360"/>
            <a:ext cx="590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1. </a:t>
            </a: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안전관리개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2. </a:t>
            </a: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보호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3. </a:t>
            </a: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신규채용자 안전수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4. </a:t>
            </a: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안전보건표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5. MSD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6. </a:t>
            </a: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전기 안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7. </a:t>
            </a:r>
            <a:r>
              <a:rPr b="1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소화 설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6206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굴림체"/>
                <a:ea typeface="굴림체"/>
              </a:rPr>
              <a:t>목  차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684360" y="1916280"/>
            <a:ext cx="792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사고를 초래하는 불안전한 행동 중에는 동작의 잘못에 의한 것이 가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많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정해진 작업장의 약속인 작업순서를 잘 지키는 일이 자신과 동료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생명을 지키는 데 절대적으로 필요하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Picture 3" descr="스캔0001"/>
          <p:cNvPicPr/>
          <p:nvPr/>
        </p:nvPicPr>
        <p:blipFill>
          <a:blip r:embed="rId1"/>
          <a:stretch/>
        </p:blipFill>
        <p:spPr>
          <a:xfrm>
            <a:off x="4911840" y="3160800"/>
            <a:ext cx="3560760" cy="27954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649440" y="3687840"/>
            <a:ext cx="46083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전에 작업순서를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자기판단에 의해 함부로 작업순서 변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금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동료의 규정위반은 서로 충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이 끝나면 순서가 지켜졌는가를 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한번 반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5" name="Group 6"/>
          <p:cNvGrpSpPr/>
          <p:nvPr/>
        </p:nvGrpSpPr>
        <p:grpSpPr>
          <a:xfrm>
            <a:off x="684360" y="981000"/>
            <a:ext cx="2734920" cy="576360"/>
            <a:chOff x="684360" y="981000"/>
            <a:chExt cx="2734920" cy="576360"/>
          </a:xfrm>
        </p:grpSpPr>
        <p:sp>
          <p:nvSpPr>
            <p:cNvPr id="266" name="Rectangle 7"/>
            <p:cNvSpPr/>
            <p:nvPr/>
          </p:nvSpPr>
          <p:spPr>
            <a:xfrm>
              <a:off x="684360" y="981000"/>
              <a:ext cx="273492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작업순서 준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67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785160" y="1020960"/>
              <a:ext cx="72288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4360" y="1916280"/>
            <a:ext cx="792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안전장치는 기계설비가 비정상적으로 작동할 때에 재빨리 작동해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근로자의 생명과 신체를 보호하고 기계 설비의 파손을 방지하므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언제나 작동이 가능하도록 유지하는 것이 중요하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3429000"/>
            <a:ext cx="48247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안전장치의 기능 제거 금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안전장치가 고장났을 때에는 즉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에게 보고하고 신속히 수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시작전에 매일 점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0" name="Picture 4" descr="스캔0002"/>
          <p:cNvPicPr/>
          <p:nvPr/>
        </p:nvPicPr>
        <p:blipFill>
          <a:blip r:embed="rId1"/>
          <a:stretch/>
        </p:blipFill>
        <p:spPr>
          <a:xfrm>
            <a:off x="4859280" y="3284640"/>
            <a:ext cx="3640320" cy="2781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2" name="Group 6"/>
          <p:cNvGrpSpPr/>
          <p:nvPr/>
        </p:nvGrpSpPr>
        <p:grpSpPr>
          <a:xfrm>
            <a:off x="684360" y="981000"/>
            <a:ext cx="2663280" cy="576360"/>
            <a:chOff x="684360" y="981000"/>
            <a:chExt cx="2663280" cy="576360"/>
          </a:xfrm>
        </p:grpSpPr>
        <p:sp>
          <p:nvSpPr>
            <p:cNvPr id="273" name="Rectangle 7"/>
            <p:cNvSpPr/>
            <p:nvPr/>
          </p:nvSpPr>
          <p:spPr>
            <a:xfrm>
              <a:off x="684360" y="981000"/>
              <a:ext cx="266328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안전장치 확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74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782280" y="1020960"/>
              <a:ext cx="70416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11280" y="1844640"/>
            <a:ext cx="79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계설비의 수리중 무단으로 스위치를 조작하여 갑자기 움직이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동부에 동료가 끼어 중대재해를 일으키는 일이 간혹 있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6" name="Picture 3" descr="스캔0008"/>
          <p:cNvPicPr/>
          <p:nvPr/>
        </p:nvPicPr>
        <p:blipFill>
          <a:blip r:embed="rId1"/>
          <a:stretch/>
        </p:blipFill>
        <p:spPr>
          <a:xfrm>
            <a:off x="4836960" y="2941560"/>
            <a:ext cx="3795840" cy="27432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684360" y="2924280"/>
            <a:ext cx="460836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연락신호를 하는 사람을 미리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동작에 의한 신호는 행동을 크게 해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알기 쉽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상을 발견했을 때는 신속히 책임자에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연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명 이상의 근로자가 중량물을 운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하거나 취급할 때에는 미리 정한 일정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신호에 따라 작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9" name="Group 6"/>
          <p:cNvGrpSpPr/>
          <p:nvPr/>
        </p:nvGrpSpPr>
        <p:grpSpPr>
          <a:xfrm>
            <a:off x="684360" y="981000"/>
            <a:ext cx="3382560" cy="576360"/>
            <a:chOff x="684360" y="981000"/>
            <a:chExt cx="3382560" cy="576360"/>
          </a:xfrm>
        </p:grpSpPr>
        <p:sp>
          <p:nvSpPr>
            <p:cNvPr id="280" name="Rectangle 7"/>
            <p:cNvSpPr/>
            <p:nvPr/>
          </p:nvSpPr>
          <p:spPr>
            <a:xfrm>
              <a:off x="684360" y="981000"/>
              <a:ext cx="338256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연락 및 신호 결정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81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808920" y="1020960"/>
              <a:ext cx="89424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11280" y="1773360"/>
            <a:ext cx="806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작업장에는 전기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갑자기 움직이는 산업용로봇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위험물질 보관소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산소결핍의 위험 장소 등 위험구역에 무방비 상태로 출입하면 사고가 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생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3" name="Picture 3" descr="스캔"/>
          <p:cNvPicPr/>
          <p:nvPr/>
        </p:nvPicPr>
        <p:blipFill>
          <a:blip r:embed="rId1"/>
          <a:stretch/>
        </p:blipFill>
        <p:spPr>
          <a:xfrm>
            <a:off x="5148360" y="2695680"/>
            <a:ext cx="3430440" cy="2778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609480" y="3078000"/>
            <a:ext cx="482436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계설비에 설치된 안전울 등이 고장나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즉시 상사에게 보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득이 출입금지 구역에 들어갈 때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에게 보고하고 지시를 받은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충분한 안전조치 후 출입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보호구 착용 등 보호조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684360" y="981000"/>
            <a:ext cx="3382560" cy="576360"/>
            <a:chOff x="684360" y="981000"/>
            <a:chExt cx="3382560" cy="576360"/>
          </a:xfrm>
        </p:grpSpPr>
        <p:sp>
          <p:nvSpPr>
            <p:cNvPr id="287" name="Rectangle 7"/>
            <p:cNvSpPr/>
            <p:nvPr/>
          </p:nvSpPr>
          <p:spPr>
            <a:xfrm>
              <a:off x="684360" y="981000"/>
              <a:ext cx="338256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위험구역 출입금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88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808920" y="1020960"/>
              <a:ext cx="89424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84360" y="1916280"/>
            <a:ext cx="806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계설비의 청소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점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수리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조정 등의 작업이나 임시작업이라 할 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있는 비정상 작업에서는 재해가 다수 발생하고 있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55640" y="2997360"/>
            <a:ext cx="46800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사전에 작업순서를 정하고 익혀둔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중에도 연락신호를 정확히 하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지적확인도 확실히 한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감독자는 지시를 명확히 하고 작업자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지시사항을 준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평소에 재해사례에 대한 정보를 교환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책을 토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1" name="Picture 4" descr="스캔0009"/>
          <p:cNvPicPr/>
          <p:nvPr/>
        </p:nvPicPr>
        <p:blipFill>
          <a:blip r:embed="rId1"/>
          <a:stretch/>
        </p:blipFill>
        <p:spPr>
          <a:xfrm>
            <a:off x="5435640" y="2768760"/>
            <a:ext cx="3168720" cy="2550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684360" y="981000"/>
            <a:ext cx="3023640" cy="576360"/>
            <a:chOff x="684360" y="981000"/>
            <a:chExt cx="3023640" cy="576360"/>
          </a:xfrm>
        </p:grpSpPr>
        <p:sp>
          <p:nvSpPr>
            <p:cNvPr id="294" name="Rectangle 7"/>
            <p:cNvSpPr/>
            <p:nvPr/>
          </p:nvSpPr>
          <p:spPr>
            <a:xfrm>
              <a:off x="684360" y="981000"/>
              <a:ext cx="302364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비정상작업 안전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95" name="Picture 8" descr="11644_30053-60578"/>
            <p:cNvPicPr/>
            <p:nvPr/>
          </p:nvPicPr>
          <p:blipFill>
            <a:blip r:embed="rId2"/>
            <a:stretch/>
          </p:blipFill>
          <p:spPr>
            <a:xfrm>
              <a:off x="795600" y="1020960"/>
              <a:ext cx="79920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작업안전을 위하여 색상과 도형을 합성한 일반적인 의미와 그림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호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문자를 추가한 특수한 의미를 부여한 금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지시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경고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안내등을 나타낸 표지판으로 안전명령의 일종이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11280" y="2924280"/>
            <a:ext cx="46800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안전 보건표지는 색과 기호와 문자로서 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과 건강에 영향을 미치는 물체 및 상황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빠르게 대처하여 적응하고 작업자의 행동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규제하여 안전작업을 하도록 하는데 그 목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 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산업안전보건법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령에 의한 금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종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경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15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종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지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종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안내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7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종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등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장내 유해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위험한 시설 및 장소 등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작업장 전반에 걸쳐서 적용되며 누구나 쉽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알 수 있도록 문자 등으로 표기한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Group 5"/>
          <p:cNvGrpSpPr/>
          <p:nvPr/>
        </p:nvGrpSpPr>
        <p:grpSpPr>
          <a:xfrm>
            <a:off x="684360" y="981000"/>
            <a:ext cx="3382560" cy="576360"/>
            <a:chOff x="684360" y="981000"/>
            <a:chExt cx="3382560" cy="576360"/>
          </a:xfrm>
        </p:grpSpPr>
        <p:sp>
          <p:nvSpPr>
            <p:cNvPr id="300" name="Rectangle 6"/>
            <p:cNvSpPr/>
            <p:nvPr/>
          </p:nvSpPr>
          <p:spPr>
            <a:xfrm>
              <a:off x="684360" y="981000"/>
              <a:ext cx="338256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안전 보건 표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01" name="Picture 7" descr="11644_30053-60578"/>
            <p:cNvPicPr/>
            <p:nvPr/>
          </p:nvPicPr>
          <p:blipFill>
            <a:blip r:embed="rId1"/>
            <a:stretch/>
          </p:blipFill>
          <p:spPr>
            <a:xfrm>
              <a:off x="808920" y="1020960"/>
              <a:ext cx="894240" cy="53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Picture 8" descr="1096009933"/>
          <p:cNvPicPr/>
          <p:nvPr/>
        </p:nvPicPr>
        <p:blipFill>
          <a:blip r:embed="rId2"/>
          <a:stretch/>
        </p:blipFill>
        <p:spPr>
          <a:xfrm>
            <a:off x="5435640" y="2924280"/>
            <a:ext cx="3073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39640" y="981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금지표지</a:t>
            </a:r>
            <a:r>
              <a:rPr b="1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(8</a:t>
            </a:r>
            <a:r>
              <a:rPr b="1" lang="ko-KR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종</a:t>
            </a:r>
            <a:r>
              <a:rPr b="1" lang="en-US" sz="3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6283440" y="5448240"/>
            <a:ext cx="2016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108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물체이동금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4338720" y="5448240"/>
            <a:ext cx="1944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107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화기금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2413080" y="5448240"/>
            <a:ext cx="1925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106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금연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450720" y="5448240"/>
            <a:ext cx="1962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105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탑승금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283440" y="3759120"/>
            <a:ext cx="2016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4338720" y="3759120"/>
            <a:ext cx="19447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413080" y="3759120"/>
            <a:ext cx="19256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450720" y="3759120"/>
            <a:ext cx="19623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6283440" y="3281400"/>
            <a:ext cx="201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104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사용금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4338720" y="328140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103 </a:t>
            </a:r>
            <a:r>
              <a:rPr b="1" lang="ko-KR" sz="1500" spc="-1" strike="noStrike">
                <a:solidFill>
                  <a:srgbClr val="000000"/>
                </a:solidFill>
                <a:latin typeface="굴림"/>
              </a:rPr>
              <a:t>차량통행금지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2413080" y="3281400"/>
            <a:ext cx="192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102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보행금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450720" y="3281400"/>
            <a:ext cx="196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101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출입금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6283440" y="1623960"/>
            <a:ext cx="2016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4338720" y="1623960"/>
            <a:ext cx="1944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2413080" y="1623960"/>
            <a:ext cx="192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450720" y="1623960"/>
            <a:ext cx="1962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450720" y="162396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450720" y="3281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450720" y="3759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450720" y="54482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450720" y="594504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450720" y="1623960"/>
            <a:ext cx="0" cy="4321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2413080" y="1623960"/>
            <a:ext cx="0" cy="432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4338720" y="1623960"/>
            <a:ext cx="0" cy="432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6283440" y="1623960"/>
            <a:ext cx="0" cy="432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8299440" y="1623960"/>
            <a:ext cx="0" cy="4321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0" name="Group 39"/>
          <p:cNvGrpSpPr/>
          <p:nvPr/>
        </p:nvGrpSpPr>
        <p:grpSpPr>
          <a:xfrm>
            <a:off x="738360" y="1697040"/>
            <a:ext cx="7273800" cy="3672000"/>
            <a:chOff x="738360" y="1697040"/>
            <a:chExt cx="7273800" cy="3672000"/>
          </a:xfrm>
        </p:grpSpPr>
        <p:pic>
          <p:nvPicPr>
            <p:cNvPr id="331" name="Picture 30" descr="KISA S101(출입금지)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5640" y="1773360"/>
              <a:ext cx="144000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1" descr="KISA S102(지나가지마시오)"/>
            <p:cNvPicPr/>
            <p:nvPr/>
          </p:nvPicPr>
          <p:blipFill>
            <a:blip r:embed="rId4"/>
            <a:stretch/>
          </p:blipFill>
          <p:spPr>
            <a:xfrm>
              <a:off x="2700360" y="1773360"/>
              <a:ext cx="144000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32" descr="KISA S103(지게차통행금지)"/>
            <p:cNvPicPr/>
            <p:nvPr/>
          </p:nvPicPr>
          <p:blipFill>
            <a:blip r:embed="rId5"/>
            <a:stretch/>
          </p:blipFill>
          <p:spPr>
            <a:xfrm>
              <a:off x="4643280" y="1844640"/>
              <a:ext cx="144000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3" descr="KISA S104(사용금지)"/>
            <p:cNvPicPr/>
            <p:nvPr/>
          </p:nvPicPr>
          <p:blipFill>
            <a:blip r:embed="rId6"/>
            <a:stretch/>
          </p:blipFill>
          <p:spPr>
            <a:xfrm>
              <a:off x="6572160" y="169704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4" descr="KISA S105(타지마시오)"/>
            <p:cNvPicPr/>
            <p:nvPr/>
          </p:nvPicPr>
          <p:blipFill>
            <a:blip r:embed="rId7"/>
            <a:stretch/>
          </p:blipFill>
          <p:spPr>
            <a:xfrm>
              <a:off x="738360" y="3784680"/>
              <a:ext cx="14396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35" descr="KISA S106(금연)"/>
            <p:cNvPicPr/>
            <p:nvPr/>
          </p:nvPicPr>
          <p:blipFill>
            <a:blip r:embed="rId8"/>
            <a:stretch/>
          </p:blipFill>
          <p:spPr>
            <a:xfrm>
              <a:off x="2682720" y="3857760"/>
              <a:ext cx="14400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6" descr="KISA S107(불사용금지)"/>
            <p:cNvPicPr/>
            <p:nvPr/>
          </p:nvPicPr>
          <p:blipFill>
            <a:blip r:embed="rId9"/>
            <a:stretch/>
          </p:blipFill>
          <p:spPr>
            <a:xfrm>
              <a:off x="4554360" y="3857760"/>
              <a:ext cx="14400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37" descr="KISA S108(물건을옮기지마시오)"/>
            <p:cNvPicPr/>
            <p:nvPr/>
          </p:nvPicPr>
          <p:blipFill>
            <a:blip r:embed="rId10"/>
            <a:stretch/>
          </p:blipFill>
          <p:spPr>
            <a:xfrm>
              <a:off x="6499080" y="3857760"/>
              <a:ext cx="151128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38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9"/>
          <p:cNvSpPr/>
          <p:nvPr/>
        </p:nvSpPr>
        <p:spPr>
          <a:xfrm>
            <a:off x="611280" y="1341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611280" y="1844640"/>
            <a:ext cx="6973920" cy="4675320"/>
            <a:chOff x="611280" y="1844640"/>
            <a:chExt cx="6973920" cy="4675320"/>
          </a:xfrm>
        </p:grpSpPr>
        <p:sp>
          <p:nvSpPr>
            <p:cNvPr id="342" name="Rectangle 3"/>
            <p:cNvSpPr/>
            <p:nvPr/>
          </p:nvSpPr>
          <p:spPr>
            <a:xfrm>
              <a:off x="5794560" y="5600880"/>
              <a:ext cx="179064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08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매달린 물체 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3" name="Rectangle 4"/>
            <p:cNvSpPr/>
            <p:nvPr/>
          </p:nvSpPr>
          <p:spPr>
            <a:xfrm>
              <a:off x="4065840" y="5600880"/>
              <a:ext cx="172872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07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고압전기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Rectangle 5"/>
            <p:cNvSpPr/>
            <p:nvPr/>
          </p:nvSpPr>
          <p:spPr>
            <a:xfrm>
              <a:off x="2354400" y="5600880"/>
              <a:ext cx="171144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</a:rPr>
                <a:t>206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방사성 물질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611280" y="5600880"/>
              <a:ext cx="174312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</a:rPr>
                <a:t>205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부식성 물질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 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5794560" y="4268880"/>
              <a:ext cx="179064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4065840" y="4268880"/>
              <a:ext cx="172872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Rectangle 9"/>
            <p:cNvSpPr/>
            <p:nvPr/>
          </p:nvSpPr>
          <p:spPr>
            <a:xfrm>
              <a:off x="2354400" y="4268880"/>
              <a:ext cx="171144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Rectangle 10"/>
            <p:cNvSpPr/>
            <p:nvPr/>
          </p:nvSpPr>
          <p:spPr>
            <a:xfrm>
              <a:off x="611280" y="4268880"/>
              <a:ext cx="174312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Rectangle 11"/>
            <p:cNvSpPr/>
            <p:nvPr/>
          </p:nvSpPr>
          <p:spPr>
            <a:xfrm>
              <a:off x="5794560" y="3349800"/>
              <a:ext cx="179064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04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독극물 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Rectangle 12"/>
            <p:cNvSpPr/>
            <p:nvPr/>
          </p:nvSpPr>
          <p:spPr>
            <a:xfrm>
              <a:off x="4065840" y="3349800"/>
              <a:ext cx="172872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03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폭발성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Rectangle 13"/>
            <p:cNvSpPr/>
            <p:nvPr/>
          </p:nvSpPr>
          <p:spPr>
            <a:xfrm>
              <a:off x="2354400" y="3349800"/>
              <a:ext cx="171144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</a:rPr>
                <a:t>202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산화성 물질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Rectangle 14"/>
            <p:cNvSpPr/>
            <p:nvPr/>
          </p:nvSpPr>
          <p:spPr>
            <a:xfrm>
              <a:off x="611280" y="3349800"/>
              <a:ext cx="174312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</a:rPr>
                <a:t>201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인화성 물질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Rectangle 15"/>
            <p:cNvSpPr/>
            <p:nvPr/>
          </p:nvSpPr>
          <p:spPr>
            <a:xfrm>
              <a:off x="5794560" y="1844640"/>
              <a:ext cx="179064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4065840" y="1844640"/>
              <a:ext cx="172872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Rectangle 17"/>
            <p:cNvSpPr/>
            <p:nvPr/>
          </p:nvSpPr>
          <p:spPr>
            <a:xfrm>
              <a:off x="2354400" y="1844640"/>
              <a:ext cx="171144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Rectangle 18"/>
            <p:cNvSpPr/>
            <p:nvPr/>
          </p:nvSpPr>
          <p:spPr>
            <a:xfrm>
              <a:off x="611280" y="1844640"/>
              <a:ext cx="174312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Line 19"/>
            <p:cNvSpPr/>
            <p:nvPr/>
          </p:nvSpPr>
          <p:spPr>
            <a:xfrm>
              <a:off x="611280" y="1844640"/>
              <a:ext cx="697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Line 20"/>
            <p:cNvSpPr/>
            <p:nvPr/>
          </p:nvSpPr>
          <p:spPr>
            <a:xfrm>
              <a:off x="611280" y="3349800"/>
              <a:ext cx="697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Line 21"/>
            <p:cNvSpPr/>
            <p:nvPr/>
          </p:nvSpPr>
          <p:spPr>
            <a:xfrm>
              <a:off x="611280" y="4268880"/>
              <a:ext cx="697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Line 22"/>
            <p:cNvSpPr/>
            <p:nvPr/>
          </p:nvSpPr>
          <p:spPr>
            <a:xfrm>
              <a:off x="611280" y="5600880"/>
              <a:ext cx="697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Line 23"/>
            <p:cNvSpPr/>
            <p:nvPr/>
          </p:nvSpPr>
          <p:spPr>
            <a:xfrm>
              <a:off x="611280" y="6519960"/>
              <a:ext cx="697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Line 24"/>
            <p:cNvSpPr/>
            <p:nvPr/>
          </p:nvSpPr>
          <p:spPr>
            <a:xfrm>
              <a:off x="611280" y="1844640"/>
              <a:ext cx="0" cy="467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354400" y="1844640"/>
              <a:ext cx="0" cy="46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Line 26"/>
            <p:cNvSpPr/>
            <p:nvPr/>
          </p:nvSpPr>
          <p:spPr>
            <a:xfrm>
              <a:off x="4065840" y="1844640"/>
              <a:ext cx="0" cy="46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6" name="Line 27"/>
            <p:cNvSpPr/>
            <p:nvPr/>
          </p:nvSpPr>
          <p:spPr>
            <a:xfrm>
              <a:off x="5794560" y="1844640"/>
              <a:ext cx="0" cy="46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7585200" y="1844640"/>
              <a:ext cx="0" cy="467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68" name="Picture 30" descr="KISA S201(인화성물질)"/>
            <p:cNvPicPr/>
            <p:nvPr/>
          </p:nvPicPr>
          <p:blipFill>
            <a:blip r:embed="rId1"/>
            <a:stretch/>
          </p:blipFill>
          <p:spPr>
            <a:xfrm>
              <a:off x="827280" y="1916280"/>
              <a:ext cx="14400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31" descr="KISA S202(산화성물질)"/>
            <p:cNvPicPr/>
            <p:nvPr/>
          </p:nvPicPr>
          <p:blipFill>
            <a:blip r:embed="rId2"/>
            <a:stretch/>
          </p:blipFill>
          <p:spPr>
            <a:xfrm>
              <a:off x="2556000" y="1916280"/>
              <a:ext cx="14400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32" descr="KISA S203(폭발물)"/>
            <p:cNvPicPr/>
            <p:nvPr/>
          </p:nvPicPr>
          <p:blipFill>
            <a:blip r:embed="rId3"/>
            <a:stretch/>
          </p:blipFill>
          <p:spPr>
            <a:xfrm>
              <a:off x="4212000" y="1916280"/>
              <a:ext cx="143964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33" descr="KISA S204(독극물)"/>
            <p:cNvPicPr/>
            <p:nvPr/>
          </p:nvPicPr>
          <p:blipFill>
            <a:blip r:embed="rId4"/>
            <a:stretch/>
          </p:blipFill>
          <p:spPr>
            <a:xfrm>
              <a:off x="6012000" y="1989000"/>
              <a:ext cx="1440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34" descr="KISA S205(부식성물질)"/>
            <p:cNvPicPr/>
            <p:nvPr/>
          </p:nvPicPr>
          <p:blipFill>
            <a:blip r:embed="rId5"/>
            <a:stretch/>
          </p:blipFill>
          <p:spPr>
            <a:xfrm>
              <a:off x="827280" y="4365720"/>
              <a:ext cx="14400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35" descr="KISA S206-1(방사능폐기물)"/>
            <p:cNvPicPr/>
            <p:nvPr/>
          </p:nvPicPr>
          <p:blipFill>
            <a:blip r:embed="rId6"/>
            <a:stretch/>
          </p:blipFill>
          <p:spPr>
            <a:xfrm>
              <a:off x="2482920" y="4292640"/>
              <a:ext cx="1440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36" descr="KISA S207(고압전기주의)"/>
            <p:cNvPicPr/>
            <p:nvPr/>
          </p:nvPicPr>
          <p:blipFill>
            <a:blip r:embed="rId7"/>
            <a:stretch/>
          </p:blipFill>
          <p:spPr>
            <a:xfrm>
              <a:off x="4283280" y="4292640"/>
              <a:ext cx="1440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37" descr="KISA S208(매달린물체주의)"/>
            <p:cNvPicPr/>
            <p:nvPr/>
          </p:nvPicPr>
          <p:blipFill>
            <a:blip r:embed="rId8"/>
            <a:stretch/>
          </p:blipFill>
          <p:spPr>
            <a:xfrm>
              <a:off x="6012000" y="4292640"/>
              <a:ext cx="1440000" cy="12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Rectangle 38"/>
          <p:cNvSpPr/>
          <p:nvPr/>
        </p:nvSpPr>
        <p:spPr>
          <a:xfrm>
            <a:off x="395280" y="765000"/>
            <a:ext cx="820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SzPct val="10283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경고표지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(15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종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39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9"/>
          <p:cNvSpPr/>
          <p:nvPr/>
        </p:nvSpPr>
        <p:spPr>
          <a:xfrm>
            <a:off x="611280" y="141300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9" name="Group 51"/>
          <p:cNvGrpSpPr/>
          <p:nvPr/>
        </p:nvGrpSpPr>
        <p:grpSpPr>
          <a:xfrm>
            <a:off x="539640" y="1700280"/>
            <a:ext cx="7128000" cy="4387680"/>
            <a:chOff x="539640" y="1700280"/>
            <a:chExt cx="7128000" cy="4387680"/>
          </a:xfrm>
        </p:grpSpPr>
        <p:sp>
          <p:nvSpPr>
            <p:cNvPr id="380" name="Rectangle 3"/>
            <p:cNvSpPr/>
            <p:nvPr/>
          </p:nvSpPr>
          <p:spPr>
            <a:xfrm>
              <a:off x="5869080" y="5427720"/>
              <a:ext cx="17985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>
              <a:off x="3962520" y="5427720"/>
              <a:ext cx="19065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14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위험장소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2340000" y="5427720"/>
              <a:ext cx="16225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13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유해물질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>
              <a:off x="539640" y="5427720"/>
              <a:ext cx="1800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12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레이저광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Rectangle 7"/>
            <p:cNvSpPr/>
            <p:nvPr/>
          </p:nvSpPr>
          <p:spPr>
            <a:xfrm>
              <a:off x="5869080" y="3943440"/>
              <a:ext cx="179856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3962520" y="3943440"/>
              <a:ext cx="190656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Rectangle 9"/>
            <p:cNvSpPr/>
            <p:nvPr/>
          </p:nvSpPr>
          <p:spPr>
            <a:xfrm>
              <a:off x="2340000" y="3943440"/>
              <a:ext cx="162252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>
              <a:off x="539640" y="3943440"/>
              <a:ext cx="180036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Rectangle 11"/>
            <p:cNvSpPr/>
            <p:nvPr/>
          </p:nvSpPr>
          <p:spPr>
            <a:xfrm>
              <a:off x="5869080" y="3228840"/>
              <a:ext cx="179856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11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몸균형상실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Rectangle 12"/>
            <p:cNvSpPr/>
            <p:nvPr/>
          </p:nvSpPr>
          <p:spPr>
            <a:xfrm>
              <a:off x="3962520" y="3228840"/>
              <a:ext cx="190656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10-1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저온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Rectangle 13"/>
            <p:cNvSpPr/>
            <p:nvPr/>
          </p:nvSpPr>
          <p:spPr>
            <a:xfrm>
              <a:off x="2340000" y="3228840"/>
              <a:ext cx="16225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10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고온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Rectangle 14"/>
            <p:cNvSpPr/>
            <p:nvPr/>
          </p:nvSpPr>
          <p:spPr>
            <a:xfrm>
              <a:off x="539640" y="3228840"/>
              <a:ext cx="180036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209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낙하물 경고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>
              <a:off x="5869080" y="1700280"/>
              <a:ext cx="1798560" cy="15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Rectangle 16"/>
            <p:cNvSpPr/>
            <p:nvPr/>
          </p:nvSpPr>
          <p:spPr>
            <a:xfrm>
              <a:off x="3962520" y="1700280"/>
              <a:ext cx="1906560" cy="15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Rectangle 17"/>
            <p:cNvSpPr/>
            <p:nvPr/>
          </p:nvSpPr>
          <p:spPr>
            <a:xfrm>
              <a:off x="2340000" y="1700280"/>
              <a:ext cx="1622520" cy="15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>
              <a:off x="539640" y="1700280"/>
              <a:ext cx="1800360" cy="15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6" name="Line 19"/>
            <p:cNvSpPr/>
            <p:nvPr/>
          </p:nvSpPr>
          <p:spPr>
            <a:xfrm>
              <a:off x="539640" y="1700280"/>
              <a:ext cx="712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Line 20"/>
            <p:cNvSpPr/>
            <p:nvPr/>
          </p:nvSpPr>
          <p:spPr>
            <a:xfrm>
              <a:off x="539640" y="3228840"/>
              <a:ext cx="712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Line 21"/>
            <p:cNvSpPr/>
            <p:nvPr/>
          </p:nvSpPr>
          <p:spPr>
            <a:xfrm>
              <a:off x="539640" y="3943440"/>
              <a:ext cx="712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Line 22"/>
            <p:cNvSpPr/>
            <p:nvPr/>
          </p:nvSpPr>
          <p:spPr>
            <a:xfrm>
              <a:off x="539640" y="5427720"/>
              <a:ext cx="712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Line 23"/>
            <p:cNvSpPr/>
            <p:nvPr/>
          </p:nvSpPr>
          <p:spPr>
            <a:xfrm>
              <a:off x="539640" y="6087960"/>
              <a:ext cx="712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Line 24"/>
            <p:cNvSpPr/>
            <p:nvPr/>
          </p:nvSpPr>
          <p:spPr>
            <a:xfrm>
              <a:off x="539640" y="1700280"/>
              <a:ext cx="0" cy="438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Line 25"/>
            <p:cNvSpPr/>
            <p:nvPr/>
          </p:nvSpPr>
          <p:spPr>
            <a:xfrm>
              <a:off x="2340000" y="1700280"/>
              <a:ext cx="0" cy="43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Line 26"/>
            <p:cNvSpPr/>
            <p:nvPr/>
          </p:nvSpPr>
          <p:spPr>
            <a:xfrm>
              <a:off x="3962520" y="1700280"/>
              <a:ext cx="0" cy="43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>
              <a:off x="5869080" y="1700280"/>
              <a:ext cx="0" cy="43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Line 28"/>
            <p:cNvSpPr/>
            <p:nvPr/>
          </p:nvSpPr>
          <p:spPr>
            <a:xfrm>
              <a:off x="7667640" y="1700280"/>
              <a:ext cx="0" cy="438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06" name="Picture 30" descr="KISA S209(낙하물주의)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43964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31" descr="KISA S210(고온주의)"/>
            <p:cNvPicPr/>
            <p:nvPr/>
          </p:nvPicPr>
          <p:blipFill>
            <a:blip r:embed="rId2"/>
            <a:stretch/>
          </p:blipFill>
          <p:spPr>
            <a:xfrm>
              <a:off x="2484360" y="1916280"/>
              <a:ext cx="14400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32" descr="KISA S210-1(저온주의)"/>
            <p:cNvPicPr/>
            <p:nvPr/>
          </p:nvPicPr>
          <p:blipFill>
            <a:blip r:embed="rId3"/>
            <a:stretch/>
          </p:blipFill>
          <p:spPr>
            <a:xfrm>
              <a:off x="4067280" y="1844640"/>
              <a:ext cx="143964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33" descr="KISA S211(몸균형상실주의)"/>
            <p:cNvPicPr/>
            <p:nvPr/>
          </p:nvPicPr>
          <p:blipFill>
            <a:blip r:embed="rId4"/>
            <a:stretch/>
          </p:blipFill>
          <p:spPr>
            <a:xfrm>
              <a:off x="6012000" y="1773360"/>
              <a:ext cx="143964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34" descr="KISA S212(레이저광선)"/>
            <p:cNvPicPr/>
            <p:nvPr/>
          </p:nvPicPr>
          <p:blipFill>
            <a:blip r:embed="rId5"/>
            <a:stretch/>
          </p:blipFill>
          <p:spPr>
            <a:xfrm>
              <a:off x="755640" y="4005360"/>
              <a:ext cx="14400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35" descr="KISA S213(유해물질)"/>
            <p:cNvPicPr/>
            <p:nvPr/>
          </p:nvPicPr>
          <p:blipFill>
            <a:blip r:embed="rId6"/>
            <a:stretch/>
          </p:blipFill>
          <p:spPr>
            <a:xfrm>
              <a:off x="2484360" y="4005360"/>
              <a:ext cx="14400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36" descr="KISA S214(위험장소)"/>
            <p:cNvPicPr/>
            <p:nvPr/>
          </p:nvPicPr>
          <p:blipFill>
            <a:blip r:embed="rId7"/>
            <a:stretch/>
          </p:blipFill>
          <p:spPr>
            <a:xfrm>
              <a:off x="4140360" y="4005360"/>
              <a:ext cx="1439640" cy="12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Rectangle 37"/>
          <p:cNvSpPr/>
          <p:nvPr/>
        </p:nvSpPr>
        <p:spPr>
          <a:xfrm>
            <a:off x="395280" y="765000"/>
            <a:ext cx="8207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SzPct val="10283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경고표지 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(15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종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Text Box 38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9"/>
          <p:cNvSpPr/>
          <p:nvPr/>
        </p:nvSpPr>
        <p:spPr>
          <a:xfrm>
            <a:off x="611280" y="141300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6" name="Group 42"/>
          <p:cNvGrpSpPr/>
          <p:nvPr/>
        </p:nvGrpSpPr>
        <p:grpSpPr>
          <a:xfrm>
            <a:off x="395280" y="1773360"/>
            <a:ext cx="7848720" cy="4462200"/>
            <a:chOff x="395280" y="1773360"/>
            <a:chExt cx="7848720" cy="4462200"/>
          </a:xfrm>
        </p:grpSpPr>
        <p:sp>
          <p:nvSpPr>
            <p:cNvPr id="417" name="Rectangle 3"/>
            <p:cNvSpPr/>
            <p:nvPr/>
          </p:nvSpPr>
          <p:spPr>
            <a:xfrm>
              <a:off x="6227640" y="5710320"/>
              <a:ext cx="2016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8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안전장갑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Rectangle 4"/>
            <p:cNvSpPr/>
            <p:nvPr/>
          </p:nvSpPr>
          <p:spPr>
            <a:xfrm>
              <a:off x="4282920" y="5710320"/>
              <a:ext cx="19447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7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안전화 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2357280" y="5710320"/>
              <a:ext cx="19256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6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귀마개 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Rectangle 6"/>
            <p:cNvSpPr/>
            <p:nvPr/>
          </p:nvSpPr>
          <p:spPr>
            <a:xfrm>
              <a:off x="395280" y="5710320"/>
              <a:ext cx="196200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5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안전모 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6227640" y="4102200"/>
              <a:ext cx="201636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4282920" y="4102200"/>
              <a:ext cx="194472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2357280" y="4102200"/>
              <a:ext cx="192564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Rectangle 10"/>
            <p:cNvSpPr/>
            <p:nvPr/>
          </p:nvSpPr>
          <p:spPr>
            <a:xfrm>
              <a:off x="395280" y="4102200"/>
              <a:ext cx="19620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6227640" y="3425760"/>
              <a:ext cx="20163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4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보안면 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Rectangle 12"/>
            <p:cNvSpPr/>
            <p:nvPr/>
          </p:nvSpPr>
          <p:spPr>
            <a:xfrm>
              <a:off x="4282920" y="3425760"/>
              <a:ext cx="194472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3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방진마스크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2357280" y="3425760"/>
              <a:ext cx="19256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2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방독마스크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395280" y="3425760"/>
              <a:ext cx="19620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301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보안경착용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Rectangle 15"/>
            <p:cNvSpPr/>
            <p:nvPr/>
          </p:nvSpPr>
          <p:spPr>
            <a:xfrm>
              <a:off x="6227640" y="1773360"/>
              <a:ext cx="2016360" cy="16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Rectangle 16"/>
            <p:cNvSpPr/>
            <p:nvPr/>
          </p:nvSpPr>
          <p:spPr>
            <a:xfrm>
              <a:off x="4282920" y="1773360"/>
              <a:ext cx="1944720" cy="16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Rectangle 17"/>
            <p:cNvSpPr/>
            <p:nvPr/>
          </p:nvSpPr>
          <p:spPr>
            <a:xfrm>
              <a:off x="2357280" y="1773360"/>
              <a:ext cx="1925640" cy="16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Rectangle 18"/>
            <p:cNvSpPr/>
            <p:nvPr/>
          </p:nvSpPr>
          <p:spPr>
            <a:xfrm>
              <a:off x="395280" y="1773360"/>
              <a:ext cx="1962000" cy="16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395280" y="1773360"/>
              <a:ext cx="7848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395280" y="342576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>
              <a:off x="395280" y="410220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95280" y="571032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395280" y="6235560"/>
              <a:ext cx="7848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395280" y="1773360"/>
              <a:ext cx="0" cy="446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2357280" y="1773360"/>
              <a:ext cx="0" cy="44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282920" y="1773360"/>
              <a:ext cx="0" cy="44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227640" y="1773360"/>
              <a:ext cx="0" cy="44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8244000" y="1773360"/>
              <a:ext cx="0" cy="446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3" name="Picture 34" descr="KISA S305(안전모착용)"/>
            <p:cNvPicPr/>
            <p:nvPr/>
          </p:nvPicPr>
          <p:blipFill>
            <a:blip r:embed="rId1"/>
            <a:stretch/>
          </p:blipFill>
          <p:spPr>
            <a:xfrm>
              <a:off x="539640" y="422100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30" descr="KISA S301(보안경착용)"/>
            <p:cNvPicPr/>
            <p:nvPr/>
          </p:nvPicPr>
          <p:blipFill>
            <a:blip r:embed="rId2"/>
            <a:stretch/>
          </p:blipFill>
          <p:spPr>
            <a:xfrm>
              <a:off x="611280" y="1916280"/>
              <a:ext cx="14396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31" descr="KISA S302(방독마스크착용)"/>
            <p:cNvPicPr/>
            <p:nvPr/>
          </p:nvPicPr>
          <p:blipFill>
            <a:blip r:embed="rId3"/>
            <a:stretch/>
          </p:blipFill>
          <p:spPr>
            <a:xfrm>
              <a:off x="2627280" y="1916280"/>
              <a:ext cx="144000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2" descr="KISA S303(방진마스크착용)"/>
            <p:cNvPicPr/>
            <p:nvPr/>
          </p:nvPicPr>
          <p:blipFill>
            <a:blip r:embed="rId4"/>
            <a:stretch/>
          </p:blipFill>
          <p:spPr>
            <a:xfrm>
              <a:off x="4572000" y="1916280"/>
              <a:ext cx="14400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33" descr="KISA S304(보안면착용)"/>
            <p:cNvPicPr/>
            <p:nvPr/>
          </p:nvPicPr>
          <p:blipFill>
            <a:blip r:embed="rId5"/>
            <a:stretch/>
          </p:blipFill>
          <p:spPr>
            <a:xfrm>
              <a:off x="6445080" y="1916280"/>
              <a:ext cx="14400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35" descr="KISA S306(귀덮개착용)"/>
            <p:cNvPicPr/>
            <p:nvPr/>
          </p:nvPicPr>
          <p:blipFill>
            <a:blip r:embed="rId6"/>
            <a:stretch/>
          </p:blipFill>
          <p:spPr>
            <a:xfrm>
              <a:off x="2556000" y="422100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36" descr="KISA S307(안전화착용)"/>
            <p:cNvPicPr/>
            <p:nvPr/>
          </p:nvPicPr>
          <p:blipFill>
            <a:blip r:embed="rId7"/>
            <a:stretch/>
          </p:blipFill>
          <p:spPr>
            <a:xfrm>
              <a:off x="4643280" y="422100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37" descr="KISA S308(안전장갑착용)"/>
            <p:cNvPicPr/>
            <p:nvPr/>
          </p:nvPicPr>
          <p:blipFill>
            <a:blip r:embed="rId8"/>
            <a:stretch/>
          </p:blipFill>
          <p:spPr>
            <a:xfrm>
              <a:off x="6516720" y="4221000"/>
              <a:ext cx="14400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Rectangle 38"/>
          <p:cNvSpPr/>
          <p:nvPr/>
        </p:nvSpPr>
        <p:spPr>
          <a:xfrm>
            <a:off x="395280" y="765000"/>
            <a:ext cx="820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SzPct val="10283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지시표지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(9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종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 Box 39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000" y="2098440"/>
            <a:ext cx="583236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우리가 지금 이 자리에서 배우려고 하는 안전과 보건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생산직에 종사하거나 사무직 등에 종사하고 있는 근로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언제나 마음속에 간직하고 실천해 나가야 할 기초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것들입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금 실시되는 안전보건 교육은 최소한의 첫 걸음이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초보적인 것으로 우리가 직장에 들어와서 직접 취급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계나 원재료들의 위험성 및 그 바른 취급방법 또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업순서 등에 대해 실지교육을 받게 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실지교육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직장에서의 훈련은 매일의 작업 속에서 극히 필요한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입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Picture 9" descr="j0299125"/>
          <p:cNvPicPr/>
          <p:nvPr/>
        </p:nvPicPr>
        <p:blipFill>
          <a:blip r:embed="rId1"/>
          <a:stretch/>
        </p:blipFill>
        <p:spPr>
          <a:xfrm>
            <a:off x="6877080" y="2060640"/>
            <a:ext cx="151128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611280" y="1052640"/>
            <a:ext cx="2449440" cy="575640"/>
            <a:chOff x="611280" y="1052640"/>
            <a:chExt cx="2449440" cy="575640"/>
          </a:xfrm>
        </p:grpSpPr>
        <p:sp>
          <p:nvSpPr>
            <p:cNvPr id="156" name="Rectangle 11"/>
            <p:cNvSpPr/>
            <p:nvPr/>
          </p:nvSpPr>
          <p:spPr>
            <a:xfrm>
              <a:off x="611280" y="1052640"/>
              <a:ext cx="2449440" cy="50292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교육 목적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57" name="Picture 12" descr="11644_30053-60578"/>
            <p:cNvPicPr/>
            <p:nvPr/>
          </p:nvPicPr>
          <p:blipFill>
            <a:blip r:embed="rId2"/>
            <a:stretch/>
          </p:blipFill>
          <p:spPr>
            <a:xfrm>
              <a:off x="701640" y="1092240"/>
              <a:ext cx="647640" cy="53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>
            <a:off x="988920" y="3841920"/>
            <a:ext cx="19623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309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안전복 착용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988920" y="2152800"/>
            <a:ext cx="19623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988920" y="2152800"/>
            <a:ext cx="196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988920" y="3841920"/>
            <a:ext cx="196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988920" y="4494240"/>
            <a:ext cx="196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988920" y="2152800"/>
            <a:ext cx="0" cy="23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2951280" y="2152800"/>
            <a:ext cx="0" cy="23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611280" y="141300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395280" y="83664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지시표지 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(9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종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3" name="Group 100"/>
          <p:cNvGrpSpPr/>
          <p:nvPr/>
        </p:nvGrpSpPr>
        <p:grpSpPr>
          <a:xfrm>
            <a:off x="1258920" y="2276640"/>
            <a:ext cx="1440000" cy="1439640"/>
            <a:chOff x="1258920" y="2276640"/>
            <a:chExt cx="1440000" cy="1439640"/>
          </a:xfrm>
        </p:grpSpPr>
        <p:sp>
          <p:nvSpPr>
            <p:cNvPr id="464" name="AutoShape 16"/>
            <p:cNvSpPr/>
            <p:nvPr/>
          </p:nvSpPr>
          <p:spPr>
            <a:xfrm>
              <a:off x="1258920" y="2276640"/>
              <a:ext cx="14400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Freeform 18"/>
            <p:cNvSpPr/>
            <p:nvPr/>
          </p:nvSpPr>
          <p:spPr>
            <a:xfrm>
              <a:off x="1258920" y="2276640"/>
              <a:ext cx="1440000" cy="1439640"/>
            </a:xfrm>
            <a:custGeom>
              <a:avLst/>
              <a:gdLst/>
              <a:ahLst/>
              <a:rect l="l" t="t" r="r" b="b"/>
              <a:pathLst>
                <a:path w="16320" h="16320">
                  <a:moveTo>
                    <a:pt x="8160" y="0"/>
                  </a:moveTo>
                  <a:lnTo>
                    <a:pt x="8578" y="10"/>
                  </a:lnTo>
                  <a:lnTo>
                    <a:pt x="8993" y="42"/>
                  </a:lnTo>
                  <a:lnTo>
                    <a:pt x="9400" y="95"/>
                  </a:lnTo>
                  <a:lnTo>
                    <a:pt x="9801" y="167"/>
                  </a:lnTo>
                  <a:lnTo>
                    <a:pt x="10196" y="258"/>
                  </a:lnTo>
                  <a:lnTo>
                    <a:pt x="10582" y="368"/>
                  </a:lnTo>
                  <a:lnTo>
                    <a:pt x="10961" y="497"/>
                  </a:lnTo>
                  <a:lnTo>
                    <a:pt x="11331" y="644"/>
                  </a:lnTo>
                  <a:lnTo>
                    <a:pt x="11693" y="807"/>
                  </a:lnTo>
                  <a:lnTo>
                    <a:pt x="12045" y="988"/>
                  </a:lnTo>
                  <a:lnTo>
                    <a:pt x="12386" y="1185"/>
                  </a:lnTo>
                  <a:lnTo>
                    <a:pt x="12717" y="1398"/>
                  </a:lnTo>
                  <a:lnTo>
                    <a:pt x="13037" y="1626"/>
                  </a:lnTo>
                  <a:lnTo>
                    <a:pt x="13346" y="1868"/>
                  </a:lnTo>
                  <a:lnTo>
                    <a:pt x="13641" y="2123"/>
                  </a:lnTo>
                  <a:lnTo>
                    <a:pt x="13925" y="2395"/>
                  </a:lnTo>
                  <a:lnTo>
                    <a:pt x="14197" y="2679"/>
                  </a:lnTo>
                  <a:lnTo>
                    <a:pt x="14452" y="2974"/>
                  </a:lnTo>
                  <a:lnTo>
                    <a:pt x="14694" y="3283"/>
                  </a:lnTo>
                  <a:lnTo>
                    <a:pt x="14922" y="3603"/>
                  </a:lnTo>
                  <a:lnTo>
                    <a:pt x="15135" y="3934"/>
                  </a:lnTo>
                  <a:lnTo>
                    <a:pt x="15332" y="4275"/>
                  </a:lnTo>
                  <a:lnTo>
                    <a:pt x="15513" y="4627"/>
                  </a:lnTo>
                  <a:lnTo>
                    <a:pt x="15676" y="4989"/>
                  </a:lnTo>
                  <a:lnTo>
                    <a:pt x="15823" y="5359"/>
                  </a:lnTo>
                  <a:lnTo>
                    <a:pt x="15952" y="5738"/>
                  </a:lnTo>
                  <a:lnTo>
                    <a:pt x="16062" y="6124"/>
                  </a:lnTo>
                  <a:lnTo>
                    <a:pt x="16153" y="6519"/>
                  </a:lnTo>
                  <a:lnTo>
                    <a:pt x="16225" y="6920"/>
                  </a:lnTo>
                  <a:lnTo>
                    <a:pt x="16278" y="7327"/>
                  </a:lnTo>
                  <a:lnTo>
                    <a:pt x="16310" y="7742"/>
                  </a:lnTo>
                  <a:lnTo>
                    <a:pt x="16320" y="8160"/>
                  </a:lnTo>
                  <a:lnTo>
                    <a:pt x="16310" y="8578"/>
                  </a:lnTo>
                  <a:lnTo>
                    <a:pt x="16278" y="8993"/>
                  </a:lnTo>
                  <a:lnTo>
                    <a:pt x="16225" y="9400"/>
                  </a:lnTo>
                  <a:lnTo>
                    <a:pt x="16153" y="9801"/>
                  </a:lnTo>
                  <a:lnTo>
                    <a:pt x="16062" y="10196"/>
                  </a:lnTo>
                  <a:lnTo>
                    <a:pt x="15952" y="10582"/>
                  </a:lnTo>
                  <a:lnTo>
                    <a:pt x="15823" y="10961"/>
                  </a:lnTo>
                  <a:lnTo>
                    <a:pt x="15676" y="11331"/>
                  </a:lnTo>
                  <a:lnTo>
                    <a:pt x="15513" y="11693"/>
                  </a:lnTo>
                  <a:lnTo>
                    <a:pt x="15332" y="12045"/>
                  </a:lnTo>
                  <a:lnTo>
                    <a:pt x="15135" y="12386"/>
                  </a:lnTo>
                  <a:lnTo>
                    <a:pt x="14922" y="12717"/>
                  </a:lnTo>
                  <a:lnTo>
                    <a:pt x="14694" y="13037"/>
                  </a:lnTo>
                  <a:lnTo>
                    <a:pt x="14452" y="13346"/>
                  </a:lnTo>
                  <a:lnTo>
                    <a:pt x="14197" y="13641"/>
                  </a:lnTo>
                  <a:lnTo>
                    <a:pt x="13925" y="13925"/>
                  </a:lnTo>
                  <a:lnTo>
                    <a:pt x="13641" y="14197"/>
                  </a:lnTo>
                  <a:lnTo>
                    <a:pt x="13346" y="14452"/>
                  </a:lnTo>
                  <a:lnTo>
                    <a:pt x="13037" y="14694"/>
                  </a:lnTo>
                  <a:lnTo>
                    <a:pt x="12717" y="14922"/>
                  </a:lnTo>
                  <a:lnTo>
                    <a:pt x="12386" y="15135"/>
                  </a:lnTo>
                  <a:lnTo>
                    <a:pt x="12045" y="15332"/>
                  </a:lnTo>
                  <a:lnTo>
                    <a:pt x="11693" y="15513"/>
                  </a:lnTo>
                  <a:lnTo>
                    <a:pt x="11331" y="15676"/>
                  </a:lnTo>
                  <a:lnTo>
                    <a:pt x="10961" y="15823"/>
                  </a:lnTo>
                  <a:lnTo>
                    <a:pt x="10582" y="15952"/>
                  </a:lnTo>
                  <a:lnTo>
                    <a:pt x="10196" y="16062"/>
                  </a:lnTo>
                  <a:lnTo>
                    <a:pt x="9801" y="16153"/>
                  </a:lnTo>
                  <a:lnTo>
                    <a:pt x="9400" y="16225"/>
                  </a:lnTo>
                  <a:lnTo>
                    <a:pt x="8993" y="16278"/>
                  </a:lnTo>
                  <a:lnTo>
                    <a:pt x="8578" y="16310"/>
                  </a:lnTo>
                  <a:lnTo>
                    <a:pt x="8160" y="16320"/>
                  </a:lnTo>
                  <a:lnTo>
                    <a:pt x="7742" y="16310"/>
                  </a:lnTo>
                  <a:lnTo>
                    <a:pt x="7327" y="16278"/>
                  </a:lnTo>
                  <a:lnTo>
                    <a:pt x="6920" y="16225"/>
                  </a:lnTo>
                  <a:lnTo>
                    <a:pt x="6519" y="16153"/>
                  </a:lnTo>
                  <a:lnTo>
                    <a:pt x="6124" y="16062"/>
                  </a:lnTo>
                  <a:lnTo>
                    <a:pt x="5738" y="15952"/>
                  </a:lnTo>
                  <a:lnTo>
                    <a:pt x="5359" y="15823"/>
                  </a:lnTo>
                  <a:lnTo>
                    <a:pt x="4989" y="15676"/>
                  </a:lnTo>
                  <a:lnTo>
                    <a:pt x="4627" y="15513"/>
                  </a:lnTo>
                  <a:lnTo>
                    <a:pt x="4275" y="15332"/>
                  </a:lnTo>
                  <a:lnTo>
                    <a:pt x="3934" y="15135"/>
                  </a:lnTo>
                  <a:lnTo>
                    <a:pt x="3603" y="14922"/>
                  </a:lnTo>
                  <a:lnTo>
                    <a:pt x="3283" y="14694"/>
                  </a:lnTo>
                  <a:lnTo>
                    <a:pt x="2974" y="14452"/>
                  </a:lnTo>
                  <a:lnTo>
                    <a:pt x="2679" y="14197"/>
                  </a:lnTo>
                  <a:lnTo>
                    <a:pt x="2395" y="13925"/>
                  </a:lnTo>
                  <a:lnTo>
                    <a:pt x="2123" y="13641"/>
                  </a:lnTo>
                  <a:lnTo>
                    <a:pt x="1868" y="13346"/>
                  </a:lnTo>
                  <a:lnTo>
                    <a:pt x="1626" y="13037"/>
                  </a:lnTo>
                  <a:lnTo>
                    <a:pt x="1398" y="12717"/>
                  </a:lnTo>
                  <a:lnTo>
                    <a:pt x="1185" y="12386"/>
                  </a:lnTo>
                  <a:lnTo>
                    <a:pt x="988" y="12045"/>
                  </a:lnTo>
                  <a:lnTo>
                    <a:pt x="807" y="11693"/>
                  </a:lnTo>
                  <a:lnTo>
                    <a:pt x="644" y="11331"/>
                  </a:lnTo>
                  <a:lnTo>
                    <a:pt x="497" y="10961"/>
                  </a:lnTo>
                  <a:lnTo>
                    <a:pt x="368" y="10582"/>
                  </a:lnTo>
                  <a:lnTo>
                    <a:pt x="258" y="10196"/>
                  </a:lnTo>
                  <a:lnTo>
                    <a:pt x="167" y="9801"/>
                  </a:lnTo>
                  <a:lnTo>
                    <a:pt x="95" y="9400"/>
                  </a:lnTo>
                  <a:lnTo>
                    <a:pt x="42" y="8993"/>
                  </a:lnTo>
                  <a:lnTo>
                    <a:pt x="10" y="8578"/>
                  </a:lnTo>
                  <a:lnTo>
                    <a:pt x="0" y="8160"/>
                  </a:lnTo>
                  <a:lnTo>
                    <a:pt x="10" y="7742"/>
                  </a:lnTo>
                  <a:lnTo>
                    <a:pt x="42" y="7327"/>
                  </a:lnTo>
                  <a:lnTo>
                    <a:pt x="95" y="6920"/>
                  </a:lnTo>
                  <a:lnTo>
                    <a:pt x="167" y="6519"/>
                  </a:lnTo>
                  <a:lnTo>
                    <a:pt x="258" y="6124"/>
                  </a:lnTo>
                  <a:lnTo>
                    <a:pt x="368" y="5738"/>
                  </a:lnTo>
                  <a:lnTo>
                    <a:pt x="497" y="5359"/>
                  </a:lnTo>
                  <a:lnTo>
                    <a:pt x="644" y="4989"/>
                  </a:lnTo>
                  <a:lnTo>
                    <a:pt x="807" y="4627"/>
                  </a:lnTo>
                  <a:lnTo>
                    <a:pt x="988" y="4275"/>
                  </a:lnTo>
                  <a:lnTo>
                    <a:pt x="1185" y="3934"/>
                  </a:lnTo>
                  <a:lnTo>
                    <a:pt x="1398" y="3603"/>
                  </a:lnTo>
                  <a:lnTo>
                    <a:pt x="1626" y="3283"/>
                  </a:lnTo>
                  <a:lnTo>
                    <a:pt x="1868" y="2974"/>
                  </a:lnTo>
                  <a:lnTo>
                    <a:pt x="2123" y="2679"/>
                  </a:lnTo>
                  <a:lnTo>
                    <a:pt x="2395" y="2395"/>
                  </a:lnTo>
                  <a:lnTo>
                    <a:pt x="2679" y="2123"/>
                  </a:lnTo>
                  <a:lnTo>
                    <a:pt x="2974" y="1868"/>
                  </a:lnTo>
                  <a:lnTo>
                    <a:pt x="3283" y="1626"/>
                  </a:lnTo>
                  <a:lnTo>
                    <a:pt x="3603" y="1398"/>
                  </a:lnTo>
                  <a:lnTo>
                    <a:pt x="3934" y="1185"/>
                  </a:lnTo>
                  <a:lnTo>
                    <a:pt x="4275" y="988"/>
                  </a:lnTo>
                  <a:lnTo>
                    <a:pt x="4627" y="807"/>
                  </a:lnTo>
                  <a:lnTo>
                    <a:pt x="4989" y="644"/>
                  </a:lnTo>
                  <a:lnTo>
                    <a:pt x="5359" y="497"/>
                  </a:lnTo>
                  <a:lnTo>
                    <a:pt x="5738" y="368"/>
                  </a:lnTo>
                  <a:lnTo>
                    <a:pt x="6124" y="258"/>
                  </a:lnTo>
                  <a:lnTo>
                    <a:pt x="6519" y="167"/>
                  </a:lnTo>
                  <a:lnTo>
                    <a:pt x="6920" y="95"/>
                  </a:lnTo>
                  <a:lnTo>
                    <a:pt x="7327" y="42"/>
                  </a:lnTo>
                  <a:lnTo>
                    <a:pt x="7742" y="10"/>
                  </a:lnTo>
                  <a:lnTo>
                    <a:pt x="8160" y="0"/>
                  </a:lnTo>
                  <a:close/>
                </a:path>
              </a:pathLst>
            </a:custGeom>
            <a:solidFill>
              <a:srgbClr val="375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Freeform 19"/>
            <p:cNvSpPr/>
            <p:nvPr/>
          </p:nvSpPr>
          <p:spPr>
            <a:xfrm>
              <a:off x="1695600" y="3517920"/>
              <a:ext cx="617400" cy="34920"/>
            </a:xfrm>
            <a:custGeom>
              <a:avLst/>
              <a:gdLst/>
              <a:ahLst/>
              <a:rect l="l" t="t" r="r" b="b"/>
              <a:pathLst>
                <a:path w="6994" h="405">
                  <a:moveTo>
                    <a:pt x="6994" y="202"/>
                  </a:moveTo>
                  <a:lnTo>
                    <a:pt x="6980" y="0"/>
                  </a:lnTo>
                  <a:lnTo>
                    <a:pt x="6884" y="0"/>
                  </a:lnTo>
                  <a:lnTo>
                    <a:pt x="6625" y="0"/>
                  </a:lnTo>
                  <a:lnTo>
                    <a:pt x="6120" y="0"/>
                  </a:lnTo>
                  <a:lnTo>
                    <a:pt x="5286" y="0"/>
                  </a:lnTo>
                  <a:lnTo>
                    <a:pt x="4044" y="0"/>
                  </a:lnTo>
                  <a:lnTo>
                    <a:pt x="2308" y="0"/>
                  </a:lnTo>
                  <a:lnTo>
                    <a:pt x="0" y="0"/>
                  </a:lnTo>
                  <a:lnTo>
                    <a:pt x="0" y="405"/>
                  </a:lnTo>
                  <a:lnTo>
                    <a:pt x="2308" y="405"/>
                  </a:lnTo>
                  <a:lnTo>
                    <a:pt x="4044" y="405"/>
                  </a:lnTo>
                  <a:lnTo>
                    <a:pt x="5286" y="405"/>
                  </a:lnTo>
                  <a:lnTo>
                    <a:pt x="6120" y="405"/>
                  </a:lnTo>
                  <a:lnTo>
                    <a:pt x="6625" y="405"/>
                  </a:lnTo>
                  <a:lnTo>
                    <a:pt x="6884" y="405"/>
                  </a:lnTo>
                  <a:lnTo>
                    <a:pt x="6980" y="405"/>
                  </a:lnTo>
                  <a:lnTo>
                    <a:pt x="6994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Freeform 20"/>
            <p:cNvSpPr/>
            <p:nvPr/>
          </p:nvSpPr>
          <p:spPr>
            <a:xfrm>
              <a:off x="2082960" y="2814480"/>
              <a:ext cx="222120" cy="719280"/>
            </a:xfrm>
            <a:custGeom>
              <a:avLst/>
              <a:gdLst/>
              <a:ahLst/>
              <a:rect l="l" t="t" r="r" b="b"/>
              <a:pathLst>
                <a:path w="2511" h="8158">
                  <a:moveTo>
                    <a:pt x="2511" y="8055"/>
                  </a:moveTo>
                  <a:lnTo>
                    <a:pt x="392" y="0"/>
                  </a:lnTo>
                  <a:lnTo>
                    <a:pt x="0" y="103"/>
                  </a:lnTo>
                  <a:lnTo>
                    <a:pt x="2119" y="8158"/>
                  </a:lnTo>
                  <a:lnTo>
                    <a:pt x="2511" y="80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Freeform 21"/>
            <p:cNvSpPr/>
            <p:nvPr/>
          </p:nvSpPr>
          <p:spPr>
            <a:xfrm>
              <a:off x="1897200" y="2806560"/>
              <a:ext cx="203040" cy="36720"/>
            </a:xfrm>
            <a:custGeom>
              <a:avLst/>
              <a:gdLst/>
              <a:ahLst/>
              <a:rect l="l" t="t" r="r" b="b"/>
              <a:pathLst>
                <a:path w="2314" h="406">
                  <a:moveTo>
                    <a:pt x="0" y="145"/>
                  </a:moveTo>
                  <a:lnTo>
                    <a:pt x="194" y="406"/>
                  </a:lnTo>
                  <a:lnTo>
                    <a:pt x="2314" y="406"/>
                  </a:lnTo>
                  <a:lnTo>
                    <a:pt x="2314" y="0"/>
                  </a:lnTo>
                  <a:lnTo>
                    <a:pt x="194" y="0"/>
                  </a:lnTo>
                  <a:lnTo>
                    <a:pt x="0" y="145"/>
                  </a:lnTo>
                  <a:lnTo>
                    <a:pt x="194" y="0"/>
                  </a:lnTo>
                  <a:lnTo>
                    <a:pt x="43" y="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9" name="Freeform 22"/>
            <p:cNvSpPr/>
            <p:nvPr/>
          </p:nvSpPr>
          <p:spPr>
            <a:xfrm>
              <a:off x="1684440" y="2819520"/>
              <a:ext cx="245880" cy="720720"/>
            </a:xfrm>
            <a:custGeom>
              <a:avLst/>
              <a:gdLst/>
              <a:ahLst/>
              <a:rect l="l" t="t" r="r" b="b"/>
              <a:pathLst>
                <a:path w="2791" h="8170">
                  <a:moveTo>
                    <a:pt x="389" y="8170"/>
                  </a:moveTo>
                  <a:lnTo>
                    <a:pt x="2791" y="116"/>
                  </a:lnTo>
                  <a:lnTo>
                    <a:pt x="2403" y="0"/>
                  </a:lnTo>
                  <a:lnTo>
                    <a:pt x="0" y="8054"/>
                  </a:lnTo>
                  <a:lnTo>
                    <a:pt x="389" y="8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Freeform 23"/>
            <p:cNvSpPr/>
            <p:nvPr/>
          </p:nvSpPr>
          <p:spPr>
            <a:xfrm>
              <a:off x="1849320" y="2639880"/>
              <a:ext cx="84240" cy="195480"/>
            </a:xfrm>
            <a:custGeom>
              <a:avLst/>
              <a:gdLst/>
              <a:ahLst/>
              <a:rect l="l" t="t" r="r" b="b"/>
              <a:pathLst>
                <a:path w="953" h="2220">
                  <a:moveTo>
                    <a:pt x="0" y="100"/>
                  </a:moveTo>
                  <a:lnTo>
                    <a:pt x="353" y="2220"/>
                  </a:lnTo>
                  <a:lnTo>
                    <a:pt x="953" y="2120"/>
                  </a:lnTo>
                  <a:lnTo>
                    <a:pt x="599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Freeform 24"/>
            <p:cNvSpPr/>
            <p:nvPr/>
          </p:nvSpPr>
          <p:spPr>
            <a:xfrm>
              <a:off x="2075040" y="2646360"/>
              <a:ext cx="83880" cy="184320"/>
            </a:xfrm>
            <a:custGeom>
              <a:avLst/>
              <a:gdLst/>
              <a:ahLst/>
              <a:rect l="l" t="t" r="r" b="b"/>
              <a:pathLst>
                <a:path w="953" h="2084">
                  <a:moveTo>
                    <a:pt x="354" y="0"/>
                  </a:moveTo>
                  <a:lnTo>
                    <a:pt x="0" y="1977"/>
                  </a:lnTo>
                  <a:lnTo>
                    <a:pt x="600" y="2084"/>
                  </a:lnTo>
                  <a:lnTo>
                    <a:pt x="953" y="107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2" name="Freeform 25"/>
            <p:cNvSpPr/>
            <p:nvPr/>
          </p:nvSpPr>
          <p:spPr>
            <a:xfrm>
              <a:off x="2009880" y="2360520"/>
              <a:ext cx="125280" cy="123840"/>
            </a:xfrm>
            <a:custGeom>
              <a:avLst/>
              <a:gdLst/>
              <a:ahLst/>
              <a:rect l="l" t="t" r="r" b="b"/>
              <a:pathLst>
                <a:path w="1409" h="1407">
                  <a:moveTo>
                    <a:pt x="1409" y="1407"/>
                  </a:moveTo>
                  <a:lnTo>
                    <a:pt x="1408" y="1371"/>
                  </a:lnTo>
                  <a:lnTo>
                    <a:pt x="1407" y="1335"/>
                  </a:lnTo>
                  <a:lnTo>
                    <a:pt x="1405" y="1299"/>
                  </a:lnTo>
                  <a:lnTo>
                    <a:pt x="1401" y="1264"/>
                  </a:lnTo>
                  <a:lnTo>
                    <a:pt x="1397" y="1229"/>
                  </a:lnTo>
                  <a:lnTo>
                    <a:pt x="1393" y="1194"/>
                  </a:lnTo>
                  <a:lnTo>
                    <a:pt x="1387" y="1158"/>
                  </a:lnTo>
                  <a:lnTo>
                    <a:pt x="1380" y="1125"/>
                  </a:lnTo>
                  <a:lnTo>
                    <a:pt x="1373" y="1091"/>
                  </a:lnTo>
                  <a:lnTo>
                    <a:pt x="1364" y="1057"/>
                  </a:lnTo>
                  <a:lnTo>
                    <a:pt x="1355" y="1023"/>
                  </a:lnTo>
                  <a:lnTo>
                    <a:pt x="1345" y="990"/>
                  </a:lnTo>
                  <a:lnTo>
                    <a:pt x="1335" y="957"/>
                  </a:lnTo>
                  <a:lnTo>
                    <a:pt x="1324" y="925"/>
                  </a:lnTo>
                  <a:lnTo>
                    <a:pt x="1311" y="893"/>
                  </a:lnTo>
                  <a:lnTo>
                    <a:pt x="1298" y="861"/>
                  </a:lnTo>
                  <a:lnTo>
                    <a:pt x="1284" y="830"/>
                  </a:lnTo>
                  <a:lnTo>
                    <a:pt x="1269" y="798"/>
                  </a:lnTo>
                  <a:lnTo>
                    <a:pt x="1254" y="768"/>
                  </a:lnTo>
                  <a:lnTo>
                    <a:pt x="1238" y="738"/>
                  </a:lnTo>
                  <a:lnTo>
                    <a:pt x="1222" y="708"/>
                  </a:lnTo>
                  <a:lnTo>
                    <a:pt x="1204" y="679"/>
                  </a:lnTo>
                  <a:lnTo>
                    <a:pt x="1186" y="650"/>
                  </a:lnTo>
                  <a:lnTo>
                    <a:pt x="1167" y="621"/>
                  </a:lnTo>
                  <a:lnTo>
                    <a:pt x="1148" y="594"/>
                  </a:lnTo>
                  <a:lnTo>
                    <a:pt x="1128" y="566"/>
                  </a:lnTo>
                  <a:lnTo>
                    <a:pt x="1107" y="540"/>
                  </a:lnTo>
                  <a:lnTo>
                    <a:pt x="1087" y="513"/>
                  </a:lnTo>
                  <a:lnTo>
                    <a:pt x="1064" y="488"/>
                  </a:lnTo>
                  <a:lnTo>
                    <a:pt x="1042" y="462"/>
                  </a:lnTo>
                  <a:lnTo>
                    <a:pt x="1020" y="438"/>
                  </a:lnTo>
                  <a:lnTo>
                    <a:pt x="996" y="413"/>
                  </a:lnTo>
                  <a:lnTo>
                    <a:pt x="972" y="390"/>
                  </a:lnTo>
                  <a:lnTo>
                    <a:pt x="947" y="366"/>
                  </a:lnTo>
                  <a:lnTo>
                    <a:pt x="922" y="344"/>
                  </a:lnTo>
                  <a:lnTo>
                    <a:pt x="895" y="323"/>
                  </a:lnTo>
                  <a:lnTo>
                    <a:pt x="870" y="301"/>
                  </a:lnTo>
                  <a:lnTo>
                    <a:pt x="842" y="281"/>
                  </a:lnTo>
                  <a:lnTo>
                    <a:pt x="814" y="260"/>
                  </a:lnTo>
                  <a:lnTo>
                    <a:pt x="787" y="241"/>
                  </a:lnTo>
                  <a:lnTo>
                    <a:pt x="758" y="223"/>
                  </a:lnTo>
                  <a:lnTo>
                    <a:pt x="730" y="204"/>
                  </a:lnTo>
                  <a:lnTo>
                    <a:pt x="700" y="187"/>
                  </a:lnTo>
                  <a:lnTo>
                    <a:pt x="671" y="170"/>
                  </a:lnTo>
                  <a:lnTo>
                    <a:pt x="641" y="154"/>
                  </a:lnTo>
                  <a:lnTo>
                    <a:pt x="610" y="139"/>
                  </a:lnTo>
                  <a:lnTo>
                    <a:pt x="579" y="125"/>
                  </a:lnTo>
                  <a:lnTo>
                    <a:pt x="548" y="111"/>
                  </a:lnTo>
                  <a:lnTo>
                    <a:pt x="516" y="98"/>
                  </a:lnTo>
                  <a:lnTo>
                    <a:pt x="484" y="86"/>
                  </a:lnTo>
                  <a:lnTo>
                    <a:pt x="451" y="74"/>
                  </a:lnTo>
                  <a:lnTo>
                    <a:pt x="419" y="63"/>
                  </a:lnTo>
                  <a:lnTo>
                    <a:pt x="385" y="53"/>
                  </a:lnTo>
                  <a:lnTo>
                    <a:pt x="352" y="44"/>
                  </a:lnTo>
                  <a:lnTo>
                    <a:pt x="317" y="36"/>
                  </a:lnTo>
                  <a:lnTo>
                    <a:pt x="284" y="29"/>
                  </a:lnTo>
                  <a:lnTo>
                    <a:pt x="249" y="23"/>
                  </a:lnTo>
                  <a:lnTo>
                    <a:pt x="214" y="15"/>
                  </a:lnTo>
                  <a:lnTo>
                    <a:pt x="179" y="11"/>
                  </a:lnTo>
                  <a:lnTo>
                    <a:pt x="144" y="7"/>
                  </a:lnTo>
                  <a:lnTo>
                    <a:pt x="108" y="4"/>
                  </a:lnTo>
                  <a:lnTo>
                    <a:pt x="73" y="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32" y="203"/>
                  </a:lnTo>
                  <a:lnTo>
                    <a:pt x="62" y="204"/>
                  </a:lnTo>
                  <a:lnTo>
                    <a:pt x="93" y="206"/>
                  </a:lnTo>
                  <a:lnTo>
                    <a:pt x="124" y="208"/>
                  </a:lnTo>
                  <a:lnTo>
                    <a:pt x="154" y="212"/>
                  </a:lnTo>
                  <a:lnTo>
                    <a:pt x="184" y="216"/>
                  </a:lnTo>
                  <a:lnTo>
                    <a:pt x="213" y="222"/>
                  </a:lnTo>
                  <a:lnTo>
                    <a:pt x="243" y="227"/>
                  </a:lnTo>
                  <a:lnTo>
                    <a:pt x="273" y="234"/>
                  </a:lnTo>
                  <a:lnTo>
                    <a:pt x="301" y="240"/>
                  </a:lnTo>
                  <a:lnTo>
                    <a:pt x="330" y="248"/>
                  </a:lnTo>
                  <a:lnTo>
                    <a:pt x="358" y="257"/>
                  </a:lnTo>
                  <a:lnTo>
                    <a:pt x="386" y="266"/>
                  </a:lnTo>
                  <a:lnTo>
                    <a:pt x="414" y="276"/>
                  </a:lnTo>
                  <a:lnTo>
                    <a:pt x="442" y="287"/>
                  </a:lnTo>
                  <a:lnTo>
                    <a:pt x="470" y="297"/>
                  </a:lnTo>
                  <a:lnTo>
                    <a:pt x="496" y="309"/>
                  </a:lnTo>
                  <a:lnTo>
                    <a:pt x="523" y="322"/>
                  </a:lnTo>
                  <a:lnTo>
                    <a:pt x="548" y="335"/>
                  </a:lnTo>
                  <a:lnTo>
                    <a:pt x="575" y="348"/>
                  </a:lnTo>
                  <a:lnTo>
                    <a:pt x="600" y="362"/>
                  </a:lnTo>
                  <a:lnTo>
                    <a:pt x="625" y="378"/>
                  </a:lnTo>
                  <a:lnTo>
                    <a:pt x="649" y="393"/>
                  </a:lnTo>
                  <a:lnTo>
                    <a:pt x="674" y="409"/>
                  </a:lnTo>
                  <a:lnTo>
                    <a:pt x="697" y="426"/>
                  </a:lnTo>
                  <a:lnTo>
                    <a:pt x="721" y="442"/>
                  </a:lnTo>
                  <a:lnTo>
                    <a:pt x="744" y="460"/>
                  </a:lnTo>
                  <a:lnTo>
                    <a:pt x="766" y="479"/>
                  </a:lnTo>
                  <a:lnTo>
                    <a:pt x="789" y="497"/>
                  </a:lnTo>
                  <a:lnTo>
                    <a:pt x="810" y="516"/>
                  </a:lnTo>
                  <a:lnTo>
                    <a:pt x="832" y="536"/>
                  </a:lnTo>
                  <a:lnTo>
                    <a:pt x="852" y="556"/>
                  </a:lnTo>
                  <a:lnTo>
                    <a:pt x="873" y="577"/>
                  </a:lnTo>
                  <a:lnTo>
                    <a:pt x="892" y="598"/>
                  </a:lnTo>
                  <a:lnTo>
                    <a:pt x="911" y="619"/>
                  </a:lnTo>
                  <a:lnTo>
                    <a:pt x="931" y="642"/>
                  </a:lnTo>
                  <a:lnTo>
                    <a:pt x="948" y="664"/>
                  </a:lnTo>
                  <a:lnTo>
                    <a:pt x="966" y="688"/>
                  </a:lnTo>
                  <a:lnTo>
                    <a:pt x="983" y="711"/>
                  </a:lnTo>
                  <a:lnTo>
                    <a:pt x="1000" y="735"/>
                  </a:lnTo>
                  <a:lnTo>
                    <a:pt x="1015" y="759"/>
                  </a:lnTo>
                  <a:lnTo>
                    <a:pt x="1032" y="784"/>
                  </a:lnTo>
                  <a:lnTo>
                    <a:pt x="1046" y="809"/>
                  </a:lnTo>
                  <a:lnTo>
                    <a:pt x="1060" y="835"/>
                  </a:lnTo>
                  <a:lnTo>
                    <a:pt x="1074" y="860"/>
                  </a:lnTo>
                  <a:lnTo>
                    <a:pt x="1087" y="887"/>
                  </a:lnTo>
                  <a:lnTo>
                    <a:pt x="1099" y="912"/>
                  </a:lnTo>
                  <a:lnTo>
                    <a:pt x="1111" y="940"/>
                  </a:lnTo>
                  <a:lnTo>
                    <a:pt x="1123" y="967"/>
                  </a:lnTo>
                  <a:lnTo>
                    <a:pt x="1133" y="994"/>
                  </a:lnTo>
                  <a:lnTo>
                    <a:pt x="1143" y="1023"/>
                  </a:lnTo>
                  <a:lnTo>
                    <a:pt x="1152" y="1050"/>
                  </a:lnTo>
                  <a:lnTo>
                    <a:pt x="1160" y="1078"/>
                  </a:lnTo>
                  <a:lnTo>
                    <a:pt x="1168" y="1107"/>
                  </a:lnTo>
                  <a:lnTo>
                    <a:pt x="1176" y="1135"/>
                  </a:lnTo>
                  <a:lnTo>
                    <a:pt x="1182" y="1164"/>
                  </a:lnTo>
                  <a:lnTo>
                    <a:pt x="1188" y="1194"/>
                  </a:lnTo>
                  <a:lnTo>
                    <a:pt x="1192" y="1224"/>
                  </a:lnTo>
                  <a:lnTo>
                    <a:pt x="1197" y="1254"/>
                  </a:lnTo>
                  <a:lnTo>
                    <a:pt x="1200" y="1284"/>
                  </a:lnTo>
                  <a:lnTo>
                    <a:pt x="1202" y="1314"/>
                  </a:lnTo>
                  <a:lnTo>
                    <a:pt x="1204" y="1345"/>
                  </a:lnTo>
                  <a:lnTo>
                    <a:pt x="1206" y="1376"/>
                  </a:lnTo>
                  <a:lnTo>
                    <a:pt x="1206" y="1407"/>
                  </a:lnTo>
                  <a:lnTo>
                    <a:pt x="1409" y="1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3" name="Freeform 26"/>
            <p:cNvSpPr/>
            <p:nvPr/>
          </p:nvSpPr>
          <p:spPr>
            <a:xfrm>
              <a:off x="2009880" y="2484360"/>
              <a:ext cx="125280" cy="125640"/>
            </a:xfrm>
            <a:custGeom>
              <a:avLst/>
              <a:gdLst/>
              <a:ahLst/>
              <a:rect l="l" t="t" r="r" b="b"/>
              <a:pathLst>
                <a:path w="1409" h="1408">
                  <a:moveTo>
                    <a:pt x="0" y="1408"/>
                  </a:moveTo>
                  <a:lnTo>
                    <a:pt x="37" y="1408"/>
                  </a:lnTo>
                  <a:lnTo>
                    <a:pt x="73" y="1406"/>
                  </a:lnTo>
                  <a:lnTo>
                    <a:pt x="108" y="1404"/>
                  </a:lnTo>
                  <a:lnTo>
                    <a:pt x="144" y="1401"/>
                  </a:lnTo>
                  <a:lnTo>
                    <a:pt x="179" y="1397"/>
                  </a:lnTo>
                  <a:lnTo>
                    <a:pt x="214" y="1392"/>
                  </a:lnTo>
                  <a:lnTo>
                    <a:pt x="249" y="1386"/>
                  </a:lnTo>
                  <a:lnTo>
                    <a:pt x="284" y="1380"/>
                  </a:lnTo>
                  <a:lnTo>
                    <a:pt x="317" y="1373"/>
                  </a:lnTo>
                  <a:lnTo>
                    <a:pt x="352" y="1363"/>
                  </a:lnTo>
                  <a:lnTo>
                    <a:pt x="385" y="1355"/>
                  </a:lnTo>
                  <a:lnTo>
                    <a:pt x="419" y="1345"/>
                  </a:lnTo>
                  <a:lnTo>
                    <a:pt x="451" y="1334"/>
                  </a:lnTo>
                  <a:lnTo>
                    <a:pt x="484" y="1323"/>
                  </a:lnTo>
                  <a:lnTo>
                    <a:pt x="516" y="1310"/>
                  </a:lnTo>
                  <a:lnTo>
                    <a:pt x="548" y="1297"/>
                  </a:lnTo>
                  <a:lnTo>
                    <a:pt x="579" y="1284"/>
                  </a:lnTo>
                  <a:lnTo>
                    <a:pt x="610" y="1270"/>
                  </a:lnTo>
                  <a:lnTo>
                    <a:pt x="641" y="1254"/>
                  </a:lnTo>
                  <a:lnTo>
                    <a:pt x="671" y="1238"/>
                  </a:lnTo>
                  <a:lnTo>
                    <a:pt x="700" y="1222"/>
                  </a:lnTo>
                  <a:lnTo>
                    <a:pt x="730" y="1204"/>
                  </a:lnTo>
                  <a:lnTo>
                    <a:pt x="758" y="1186"/>
                  </a:lnTo>
                  <a:lnTo>
                    <a:pt x="787" y="1167"/>
                  </a:lnTo>
                  <a:lnTo>
                    <a:pt x="814" y="1148"/>
                  </a:lnTo>
                  <a:lnTo>
                    <a:pt x="842" y="1128"/>
                  </a:lnTo>
                  <a:lnTo>
                    <a:pt x="870" y="1107"/>
                  </a:lnTo>
                  <a:lnTo>
                    <a:pt x="895" y="1086"/>
                  </a:lnTo>
                  <a:lnTo>
                    <a:pt x="922" y="1064"/>
                  </a:lnTo>
                  <a:lnTo>
                    <a:pt x="947" y="1042"/>
                  </a:lnTo>
                  <a:lnTo>
                    <a:pt x="972" y="1019"/>
                  </a:lnTo>
                  <a:lnTo>
                    <a:pt x="996" y="995"/>
                  </a:lnTo>
                  <a:lnTo>
                    <a:pt x="1020" y="971"/>
                  </a:lnTo>
                  <a:lnTo>
                    <a:pt x="1042" y="946"/>
                  </a:lnTo>
                  <a:lnTo>
                    <a:pt x="1064" y="921"/>
                  </a:lnTo>
                  <a:lnTo>
                    <a:pt x="1087" y="895"/>
                  </a:lnTo>
                  <a:lnTo>
                    <a:pt x="1107" y="869"/>
                  </a:lnTo>
                  <a:lnTo>
                    <a:pt x="1128" y="842"/>
                  </a:lnTo>
                  <a:lnTo>
                    <a:pt x="1148" y="814"/>
                  </a:lnTo>
                  <a:lnTo>
                    <a:pt x="1167" y="787"/>
                  </a:lnTo>
                  <a:lnTo>
                    <a:pt x="1186" y="758"/>
                  </a:lnTo>
                  <a:lnTo>
                    <a:pt x="1204" y="730"/>
                  </a:lnTo>
                  <a:lnTo>
                    <a:pt x="1222" y="700"/>
                  </a:lnTo>
                  <a:lnTo>
                    <a:pt x="1238" y="671"/>
                  </a:lnTo>
                  <a:lnTo>
                    <a:pt x="1254" y="640"/>
                  </a:lnTo>
                  <a:lnTo>
                    <a:pt x="1269" y="610"/>
                  </a:lnTo>
                  <a:lnTo>
                    <a:pt x="1284" y="579"/>
                  </a:lnTo>
                  <a:lnTo>
                    <a:pt x="1298" y="547"/>
                  </a:lnTo>
                  <a:lnTo>
                    <a:pt x="1311" y="515"/>
                  </a:lnTo>
                  <a:lnTo>
                    <a:pt x="1324" y="484"/>
                  </a:lnTo>
                  <a:lnTo>
                    <a:pt x="1335" y="451"/>
                  </a:lnTo>
                  <a:lnTo>
                    <a:pt x="1345" y="419"/>
                  </a:lnTo>
                  <a:lnTo>
                    <a:pt x="1355" y="385"/>
                  </a:lnTo>
                  <a:lnTo>
                    <a:pt x="1364" y="351"/>
                  </a:lnTo>
                  <a:lnTo>
                    <a:pt x="1373" y="318"/>
                  </a:lnTo>
                  <a:lnTo>
                    <a:pt x="1380" y="283"/>
                  </a:lnTo>
                  <a:lnTo>
                    <a:pt x="1387" y="249"/>
                  </a:lnTo>
                  <a:lnTo>
                    <a:pt x="1393" y="213"/>
                  </a:lnTo>
                  <a:lnTo>
                    <a:pt x="1397" y="179"/>
                  </a:lnTo>
                  <a:lnTo>
                    <a:pt x="1401" y="143"/>
                  </a:lnTo>
                  <a:lnTo>
                    <a:pt x="1405" y="108"/>
                  </a:lnTo>
                  <a:lnTo>
                    <a:pt x="1407" y="73"/>
                  </a:lnTo>
                  <a:lnTo>
                    <a:pt x="1408" y="36"/>
                  </a:lnTo>
                  <a:lnTo>
                    <a:pt x="1409" y="0"/>
                  </a:lnTo>
                  <a:lnTo>
                    <a:pt x="1206" y="0"/>
                  </a:lnTo>
                  <a:lnTo>
                    <a:pt x="1206" y="32"/>
                  </a:lnTo>
                  <a:lnTo>
                    <a:pt x="1204" y="62"/>
                  </a:lnTo>
                  <a:lnTo>
                    <a:pt x="1202" y="93"/>
                  </a:lnTo>
                  <a:lnTo>
                    <a:pt x="1200" y="124"/>
                  </a:lnTo>
                  <a:lnTo>
                    <a:pt x="1197" y="153"/>
                  </a:lnTo>
                  <a:lnTo>
                    <a:pt x="1192" y="184"/>
                  </a:lnTo>
                  <a:lnTo>
                    <a:pt x="1188" y="213"/>
                  </a:lnTo>
                  <a:lnTo>
                    <a:pt x="1182" y="243"/>
                  </a:lnTo>
                  <a:lnTo>
                    <a:pt x="1176" y="272"/>
                  </a:lnTo>
                  <a:lnTo>
                    <a:pt x="1168" y="301"/>
                  </a:lnTo>
                  <a:lnTo>
                    <a:pt x="1160" y="330"/>
                  </a:lnTo>
                  <a:lnTo>
                    <a:pt x="1152" y="358"/>
                  </a:lnTo>
                  <a:lnTo>
                    <a:pt x="1143" y="386"/>
                  </a:lnTo>
                  <a:lnTo>
                    <a:pt x="1133" y="413"/>
                  </a:lnTo>
                  <a:lnTo>
                    <a:pt x="1123" y="441"/>
                  </a:lnTo>
                  <a:lnTo>
                    <a:pt x="1111" y="469"/>
                  </a:lnTo>
                  <a:lnTo>
                    <a:pt x="1099" y="495"/>
                  </a:lnTo>
                  <a:lnTo>
                    <a:pt x="1087" y="522"/>
                  </a:lnTo>
                  <a:lnTo>
                    <a:pt x="1074" y="548"/>
                  </a:lnTo>
                  <a:lnTo>
                    <a:pt x="1060" y="574"/>
                  </a:lnTo>
                  <a:lnTo>
                    <a:pt x="1046" y="599"/>
                  </a:lnTo>
                  <a:lnTo>
                    <a:pt x="1032" y="625"/>
                  </a:lnTo>
                  <a:lnTo>
                    <a:pt x="1015" y="649"/>
                  </a:lnTo>
                  <a:lnTo>
                    <a:pt x="1000" y="674"/>
                  </a:lnTo>
                  <a:lnTo>
                    <a:pt x="983" y="697"/>
                  </a:lnTo>
                  <a:lnTo>
                    <a:pt x="966" y="721"/>
                  </a:lnTo>
                  <a:lnTo>
                    <a:pt x="948" y="744"/>
                  </a:lnTo>
                  <a:lnTo>
                    <a:pt x="931" y="766"/>
                  </a:lnTo>
                  <a:lnTo>
                    <a:pt x="911" y="789"/>
                  </a:lnTo>
                  <a:lnTo>
                    <a:pt x="892" y="810"/>
                  </a:lnTo>
                  <a:lnTo>
                    <a:pt x="873" y="832"/>
                  </a:lnTo>
                  <a:lnTo>
                    <a:pt x="852" y="852"/>
                  </a:lnTo>
                  <a:lnTo>
                    <a:pt x="832" y="873"/>
                  </a:lnTo>
                  <a:lnTo>
                    <a:pt x="810" y="892"/>
                  </a:lnTo>
                  <a:lnTo>
                    <a:pt x="789" y="911"/>
                  </a:lnTo>
                  <a:lnTo>
                    <a:pt x="766" y="930"/>
                  </a:lnTo>
                  <a:lnTo>
                    <a:pt x="744" y="948"/>
                  </a:lnTo>
                  <a:lnTo>
                    <a:pt x="721" y="966"/>
                  </a:lnTo>
                  <a:lnTo>
                    <a:pt x="697" y="983"/>
                  </a:lnTo>
                  <a:lnTo>
                    <a:pt x="674" y="999"/>
                  </a:lnTo>
                  <a:lnTo>
                    <a:pt x="649" y="1015"/>
                  </a:lnTo>
                  <a:lnTo>
                    <a:pt x="625" y="1031"/>
                  </a:lnTo>
                  <a:lnTo>
                    <a:pt x="600" y="1046"/>
                  </a:lnTo>
                  <a:lnTo>
                    <a:pt x="575" y="1060"/>
                  </a:lnTo>
                  <a:lnTo>
                    <a:pt x="548" y="1074"/>
                  </a:lnTo>
                  <a:lnTo>
                    <a:pt x="523" y="1087"/>
                  </a:lnTo>
                  <a:lnTo>
                    <a:pt x="496" y="1099"/>
                  </a:lnTo>
                  <a:lnTo>
                    <a:pt x="470" y="1111"/>
                  </a:lnTo>
                  <a:lnTo>
                    <a:pt x="442" y="1122"/>
                  </a:lnTo>
                  <a:lnTo>
                    <a:pt x="414" y="1133"/>
                  </a:lnTo>
                  <a:lnTo>
                    <a:pt x="386" y="1142"/>
                  </a:lnTo>
                  <a:lnTo>
                    <a:pt x="358" y="1151"/>
                  </a:lnTo>
                  <a:lnTo>
                    <a:pt x="330" y="1160"/>
                  </a:lnTo>
                  <a:lnTo>
                    <a:pt x="301" y="1167"/>
                  </a:lnTo>
                  <a:lnTo>
                    <a:pt x="273" y="1175"/>
                  </a:lnTo>
                  <a:lnTo>
                    <a:pt x="243" y="1182"/>
                  </a:lnTo>
                  <a:lnTo>
                    <a:pt x="213" y="1187"/>
                  </a:lnTo>
                  <a:lnTo>
                    <a:pt x="184" y="1192"/>
                  </a:lnTo>
                  <a:lnTo>
                    <a:pt x="154" y="1196"/>
                  </a:lnTo>
                  <a:lnTo>
                    <a:pt x="124" y="1200"/>
                  </a:lnTo>
                  <a:lnTo>
                    <a:pt x="93" y="1202"/>
                  </a:lnTo>
                  <a:lnTo>
                    <a:pt x="62" y="1204"/>
                  </a:lnTo>
                  <a:lnTo>
                    <a:pt x="32" y="1205"/>
                  </a:lnTo>
                  <a:lnTo>
                    <a:pt x="0" y="1205"/>
                  </a:lnTo>
                  <a:lnTo>
                    <a:pt x="0" y="14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Freeform 27"/>
            <p:cNvSpPr/>
            <p:nvPr/>
          </p:nvSpPr>
          <p:spPr>
            <a:xfrm>
              <a:off x="1886040" y="2484360"/>
              <a:ext cx="123840" cy="125640"/>
            </a:xfrm>
            <a:custGeom>
              <a:avLst/>
              <a:gdLst/>
              <a:ahLst/>
              <a:rect l="l" t="t" r="r" b="b"/>
              <a:pathLst>
                <a:path w="1408" h="1408">
                  <a:moveTo>
                    <a:pt x="0" y="0"/>
                  </a:moveTo>
                  <a:lnTo>
                    <a:pt x="1" y="36"/>
                  </a:lnTo>
                  <a:lnTo>
                    <a:pt x="2" y="73"/>
                  </a:lnTo>
                  <a:lnTo>
                    <a:pt x="4" y="108"/>
                  </a:lnTo>
                  <a:lnTo>
                    <a:pt x="7" y="143"/>
                  </a:lnTo>
                  <a:lnTo>
                    <a:pt x="11" y="179"/>
                  </a:lnTo>
                  <a:lnTo>
                    <a:pt x="16" y="213"/>
                  </a:lnTo>
                  <a:lnTo>
                    <a:pt x="22" y="249"/>
                  </a:lnTo>
                  <a:lnTo>
                    <a:pt x="29" y="283"/>
                  </a:lnTo>
                  <a:lnTo>
                    <a:pt x="36" y="318"/>
                  </a:lnTo>
                  <a:lnTo>
                    <a:pt x="45" y="351"/>
                  </a:lnTo>
                  <a:lnTo>
                    <a:pt x="53" y="385"/>
                  </a:lnTo>
                  <a:lnTo>
                    <a:pt x="63" y="419"/>
                  </a:lnTo>
                  <a:lnTo>
                    <a:pt x="75" y="451"/>
                  </a:lnTo>
                  <a:lnTo>
                    <a:pt x="86" y="484"/>
                  </a:lnTo>
                  <a:lnTo>
                    <a:pt x="98" y="515"/>
                  </a:lnTo>
                  <a:lnTo>
                    <a:pt x="111" y="547"/>
                  </a:lnTo>
                  <a:lnTo>
                    <a:pt x="125" y="579"/>
                  </a:lnTo>
                  <a:lnTo>
                    <a:pt x="140" y="610"/>
                  </a:lnTo>
                  <a:lnTo>
                    <a:pt x="155" y="640"/>
                  </a:lnTo>
                  <a:lnTo>
                    <a:pt x="170" y="671"/>
                  </a:lnTo>
                  <a:lnTo>
                    <a:pt x="188" y="700"/>
                  </a:lnTo>
                  <a:lnTo>
                    <a:pt x="204" y="730"/>
                  </a:lnTo>
                  <a:lnTo>
                    <a:pt x="222" y="758"/>
                  </a:lnTo>
                  <a:lnTo>
                    <a:pt x="241" y="787"/>
                  </a:lnTo>
                  <a:lnTo>
                    <a:pt x="260" y="814"/>
                  </a:lnTo>
                  <a:lnTo>
                    <a:pt x="281" y="842"/>
                  </a:lnTo>
                  <a:lnTo>
                    <a:pt x="301" y="869"/>
                  </a:lnTo>
                  <a:lnTo>
                    <a:pt x="322" y="895"/>
                  </a:lnTo>
                  <a:lnTo>
                    <a:pt x="344" y="921"/>
                  </a:lnTo>
                  <a:lnTo>
                    <a:pt x="366" y="946"/>
                  </a:lnTo>
                  <a:lnTo>
                    <a:pt x="390" y="971"/>
                  </a:lnTo>
                  <a:lnTo>
                    <a:pt x="413" y="995"/>
                  </a:lnTo>
                  <a:lnTo>
                    <a:pt x="438" y="1019"/>
                  </a:lnTo>
                  <a:lnTo>
                    <a:pt x="462" y="1042"/>
                  </a:lnTo>
                  <a:lnTo>
                    <a:pt x="488" y="1064"/>
                  </a:lnTo>
                  <a:lnTo>
                    <a:pt x="513" y="1086"/>
                  </a:lnTo>
                  <a:lnTo>
                    <a:pt x="540" y="1107"/>
                  </a:lnTo>
                  <a:lnTo>
                    <a:pt x="566" y="1128"/>
                  </a:lnTo>
                  <a:lnTo>
                    <a:pt x="594" y="1148"/>
                  </a:lnTo>
                  <a:lnTo>
                    <a:pt x="621" y="1167"/>
                  </a:lnTo>
                  <a:lnTo>
                    <a:pt x="650" y="1186"/>
                  </a:lnTo>
                  <a:lnTo>
                    <a:pt x="679" y="1204"/>
                  </a:lnTo>
                  <a:lnTo>
                    <a:pt x="708" y="1222"/>
                  </a:lnTo>
                  <a:lnTo>
                    <a:pt x="738" y="1238"/>
                  </a:lnTo>
                  <a:lnTo>
                    <a:pt x="768" y="1254"/>
                  </a:lnTo>
                  <a:lnTo>
                    <a:pt x="799" y="1270"/>
                  </a:lnTo>
                  <a:lnTo>
                    <a:pt x="830" y="1284"/>
                  </a:lnTo>
                  <a:lnTo>
                    <a:pt x="861" y="1297"/>
                  </a:lnTo>
                  <a:lnTo>
                    <a:pt x="893" y="1310"/>
                  </a:lnTo>
                  <a:lnTo>
                    <a:pt x="924" y="1323"/>
                  </a:lnTo>
                  <a:lnTo>
                    <a:pt x="957" y="1334"/>
                  </a:lnTo>
                  <a:lnTo>
                    <a:pt x="991" y="1345"/>
                  </a:lnTo>
                  <a:lnTo>
                    <a:pt x="1023" y="1355"/>
                  </a:lnTo>
                  <a:lnTo>
                    <a:pt x="1057" y="1363"/>
                  </a:lnTo>
                  <a:lnTo>
                    <a:pt x="1091" y="1373"/>
                  </a:lnTo>
                  <a:lnTo>
                    <a:pt x="1126" y="1380"/>
                  </a:lnTo>
                  <a:lnTo>
                    <a:pt x="1160" y="1386"/>
                  </a:lnTo>
                  <a:lnTo>
                    <a:pt x="1195" y="1392"/>
                  </a:lnTo>
                  <a:lnTo>
                    <a:pt x="1230" y="1397"/>
                  </a:lnTo>
                  <a:lnTo>
                    <a:pt x="1265" y="1401"/>
                  </a:lnTo>
                  <a:lnTo>
                    <a:pt x="1301" y="1404"/>
                  </a:lnTo>
                  <a:lnTo>
                    <a:pt x="1336" y="1406"/>
                  </a:lnTo>
                  <a:lnTo>
                    <a:pt x="1372" y="1408"/>
                  </a:lnTo>
                  <a:lnTo>
                    <a:pt x="1408" y="1408"/>
                  </a:lnTo>
                  <a:lnTo>
                    <a:pt x="1408" y="1205"/>
                  </a:lnTo>
                  <a:lnTo>
                    <a:pt x="1378" y="1205"/>
                  </a:lnTo>
                  <a:lnTo>
                    <a:pt x="1347" y="1204"/>
                  </a:lnTo>
                  <a:lnTo>
                    <a:pt x="1315" y="1202"/>
                  </a:lnTo>
                  <a:lnTo>
                    <a:pt x="1285" y="1200"/>
                  </a:lnTo>
                  <a:lnTo>
                    <a:pt x="1255" y="1196"/>
                  </a:lnTo>
                  <a:lnTo>
                    <a:pt x="1224" y="1192"/>
                  </a:lnTo>
                  <a:lnTo>
                    <a:pt x="1195" y="1187"/>
                  </a:lnTo>
                  <a:lnTo>
                    <a:pt x="1165" y="1182"/>
                  </a:lnTo>
                  <a:lnTo>
                    <a:pt x="1137" y="1175"/>
                  </a:lnTo>
                  <a:lnTo>
                    <a:pt x="1108" y="1167"/>
                  </a:lnTo>
                  <a:lnTo>
                    <a:pt x="1079" y="1160"/>
                  </a:lnTo>
                  <a:lnTo>
                    <a:pt x="1051" y="1151"/>
                  </a:lnTo>
                  <a:lnTo>
                    <a:pt x="1022" y="1142"/>
                  </a:lnTo>
                  <a:lnTo>
                    <a:pt x="995" y="1133"/>
                  </a:lnTo>
                  <a:lnTo>
                    <a:pt x="967" y="1122"/>
                  </a:lnTo>
                  <a:lnTo>
                    <a:pt x="940" y="1111"/>
                  </a:lnTo>
                  <a:lnTo>
                    <a:pt x="913" y="1099"/>
                  </a:lnTo>
                  <a:lnTo>
                    <a:pt x="887" y="1087"/>
                  </a:lnTo>
                  <a:lnTo>
                    <a:pt x="860" y="1074"/>
                  </a:lnTo>
                  <a:lnTo>
                    <a:pt x="835" y="1060"/>
                  </a:lnTo>
                  <a:lnTo>
                    <a:pt x="809" y="1046"/>
                  </a:lnTo>
                  <a:lnTo>
                    <a:pt x="785" y="1031"/>
                  </a:lnTo>
                  <a:lnTo>
                    <a:pt x="759" y="1015"/>
                  </a:lnTo>
                  <a:lnTo>
                    <a:pt x="735" y="999"/>
                  </a:lnTo>
                  <a:lnTo>
                    <a:pt x="711" y="983"/>
                  </a:lnTo>
                  <a:lnTo>
                    <a:pt x="688" y="966"/>
                  </a:lnTo>
                  <a:lnTo>
                    <a:pt x="665" y="948"/>
                  </a:lnTo>
                  <a:lnTo>
                    <a:pt x="643" y="930"/>
                  </a:lnTo>
                  <a:lnTo>
                    <a:pt x="620" y="911"/>
                  </a:lnTo>
                  <a:lnTo>
                    <a:pt x="599" y="892"/>
                  </a:lnTo>
                  <a:lnTo>
                    <a:pt x="578" y="873"/>
                  </a:lnTo>
                  <a:lnTo>
                    <a:pt x="557" y="852"/>
                  </a:lnTo>
                  <a:lnTo>
                    <a:pt x="537" y="832"/>
                  </a:lnTo>
                  <a:lnTo>
                    <a:pt x="516" y="810"/>
                  </a:lnTo>
                  <a:lnTo>
                    <a:pt x="497" y="789"/>
                  </a:lnTo>
                  <a:lnTo>
                    <a:pt x="479" y="766"/>
                  </a:lnTo>
                  <a:lnTo>
                    <a:pt x="460" y="744"/>
                  </a:lnTo>
                  <a:lnTo>
                    <a:pt x="443" y="721"/>
                  </a:lnTo>
                  <a:lnTo>
                    <a:pt x="426" y="697"/>
                  </a:lnTo>
                  <a:lnTo>
                    <a:pt x="409" y="674"/>
                  </a:lnTo>
                  <a:lnTo>
                    <a:pt x="393" y="649"/>
                  </a:lnTo>
                  <a:lnTo>
                    <a:pt x="378" y="625"/>
                  </a:lnTo>
                  <a:lnTo>
                    <a:pt x="362" y="599"/>
                  </a:lnTo>
                  <a:lnTo>
                    <a:pt x="348" y="574"/>
                  </a:lnTo>
                  <a:lnTo>
                    <a:pt x="335" y="548"/>
                  </a:lnTo>
                  <a:lnTo>
                    <a:pt x="321" y="522"/>
                  </a:lnTo>
                  <a:lnTo>
                    <a:pt x="309" y="495"/>
                  </a:lnTo>
                  <a:lnTo>
                    <a:pt x="298" y="469"/>
                  </a:lnTo>
                  <a:lnTo>
                    <a:pt x="287" y="441"/>
                  </a:lnTo>
                  <a:lnTo>
                    <a:pt x="276" y="413"/>
                  </a:lnTo>
                  <a:lnTo>
                    <a:pt x="266" y="386"/>
                  </a:lnTo>
                  <a:lnTo>
                    <a:pt x="257" y="358"/>
                  </a:lnTo>
                  <a:lnTo>
                    <a:pt x="249" y="330"/>
                  </a:lnTo>
                  <a:lnTo>
                    <a:pt x="241" y="301"/>
                  </a:lnTo>
                  <a:lnTo>
                    <a:pt x="234" y="272"/>
                  </a:lnTo>
                  <a:lnTo>
                    <a:pt x="228" y="243"/>
                  </a:lnTo>
                  <a:lnTo>
                    <a:pt x="221" y="213"/>
                  </a:lnTo>
                  <a:lnTo>
                    <a:pt x="216" y="184"/>
                  </a:lnTo>
                  <a:lnTo>
                    <a:pt x="212" y="153"/>
                  </a:lnTo>
                  <a:lnTo>
                    <a:pt x="209" y="124"/>
                  </a:lnTo>
                  <a:lnTo>
                    <a:pt x="206" y="93"/>
                  </a:lnTo>
                  <a:lnTo>
                    <a:pt x="204" y="62"/>
                  </a:lnTo>
                  <a:lnTo>
                    <a:pt x="203" y="32"/>
                  </a:lnTo>
                  <a:lnTo>
                    <a:pt x="2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5" name="Freeform 28"/>
            <p:cNvSpPr/>
            <p:nvPr/>
          </p:nvSpPr>
          <p:spPr>
            <a:xfrm>
              <a:off x="1886040" y="2360520"/>
              <a:ext cx="123840" cy="123840"/>
            </a:xfrm>
            <a:custGeom>
              <a:avLst/>
              <a:gdLst/>
              <a:ahLst/>
              <a:rect l="l" t="t" r="r" b="b"/>
              <a:pathLst>
                <a:path w="1408" h="1407">
                  <a:moveTo>
                    <a:pt x="1408" y="0"/>
                  </a:moveTo>
                  <a:lnTo>
                    <a:pt x="1372" y="0"/>
                  </a:lnTo>
                  <a:lnTo>
                    <a:pt x="1336" y="2"/>
                  </a:lnTo>
                  <a:lnTo>
                    <a:pt x="1301" y="4"/>
                  </a:lnTo>
                  <a:lnTo>
                    <a:pt x="1265" y="7"/>
                  </a:lnTo>
                  <a:lnTo>
                    <a:pt x="1230" y="11"/>
                  </a:lnTo>
                  <a:lnTo>
                    <a:pt x="1195" y="15"/>
                  </a:lnTo>
                  <a:lnTo>
                    <a:pt x="1160" y="23"/>
                  </a:lnTo>
                  <a:lnTo>
                    <a:pt x="1126" y="29"/>
                  </a:lnTo>
                  <a:lnTo>
                    <a:pt x="1091" y="36"/>
                  </a:lnTo>
                  <a:lnTo>
                    <a:pt x="1057" y="44"/>
                  </a:lnTo>
                  <a:lnTo>
                    <a:pt x="1023" y="53"/>
                  </a:lnTo>
                  <a:lnTo>
                    <a:pt x="991" y="63"/>
                  </a:lnTo>
                  <a:lnTo>
                    <a:pt x="957" y="74"/>
                  </a:lnTo>
                  <a:lnTo>
                    <a:pt x="924" y="86"/>
                  </a:lnTo>
                  <a:lnTo>
                    <a:pt x="893" y="98"/>
                  </a:lnTo>
                  <a:lnTo>
                    <a:pt x="861" y="111"/>
                  </a:lnTo>
                  <a:lnTo>
                    <a:pt x="830" y="125"/>
                  </a:lnTo>
                  <a:lnTo>
                    <a:pt x="799" y="139"/>
                  </a:lnTo>
                  <a:lnTo>
                    <a:pt x="768" y="154"/>
                  </a:lnTo>
                  <a:lnTo>
                    <a:pt x="738" y="170"/>
                  </a:lnTo>
                  <a:lnTo>
                    <a:pt x="708" y="187"/>
                  </a:lnTo>
                  <a:lnTo>
                    <a:pt x="679" y="204"/>
                  </a:lnTo>
                  <a:lnTo>
                    <a:pt x="650" y="223"/>
                  </a:lnTo>
                  <a:lnTo>
                    <a:pt x="621" y="241"/>
                  </a:lnTo>
                  <a:lnTo>
                    <a:pt x="594" y="260"/>
                  </a:lnTo>
                  <a:lnTo>
                    <a:pt x="566" y="281"/>
                  </a:lnTo>
                  <a:lnTo>
                    <a:pt x="540" y="301"/>
                  </a:lnTo>
                  <a:lnTo>
                    <a:pt x="513" y="323"/>
                  </a:lnTo>
                  <a:lnTo>
                    <a:pt x="488" y="344"/>
                  </a:lnTo>
                  <a:lnTo>
                    <a:pt x="462" y="366"/>
                  </a:lnTo>
                  <a:lnTo>
                    <a:pt x="438" y="390"/>
                  </a:lnTo>
                  <a:lnTo>
                    <a:pt x="413" y="413"/>
                  </a:lnTo>
                  <a:lnTo>
                    <a:pt x="390" y="438"/>
                  </a:lnTo>
                  <a:lnTo>
                    <a:pt x="366" y="462"/>
                  </a:lnTo>
                  <a:lnTo>
                    <a:pt x="344" y="488"/>
                  </a:lnTo>
                  <a:lnTo>
                    <a:pt x="322" y="513"/>
                  </a:lnTo>
                  <a:lnTo>
                    <a:pt x="301" y="540"/>
                  </a:lnTo>
                  <a:lnTo>
                    <a:pt x="281" y="566"/>
                  </a:lnTo>
                  <a:lnTo>
                    <a:pt x="260" y="594"/>
                  </a:lnTo>
                  <a:lnTo>
                    <a:pt x="241" y="621"/>
                  </a:lnTo>
                  <a:lnTo>
                    <a:pt x="222" y="650"/>
                  </a:lnTo>
                  <a:lnTo>
                    <a:pt x="204" y="679"/>
                  </a:lnTo>
                  <a:lnTo>
                    <a:pt x="188" y="708"/>
                  </a:lnTo>
                  <a:lnTo>
                    <a:pt x="170" y="738"/>
                  </a:lnTo>
                  <a:lnTo>
                    <a:pt x="155" y="768"/>
                  </a:lnTo>
                  <a:lnTo>
                    <a:pt x="140" y="798"/>
                  </a:lnTo>
                  <a:lnTo>
                    <a:pt x="125" y="830"/>
                  </a:lnTo>
                  <a:lnTo>
                    <a:pt x="111" y="861"/>
                  </a:lnTo>
                  <a:lnTo>
                    <a:pt x="98" y="893"/>
                  </a:lnTo>
                  <a:lnTo>
                    <a:pt x="86" y="925"/>
                  </a:lnTo>
                  <a:lnTo>
                    <a:pt x="75" y="957"/>
                  </a:lnTo>
                  <a:lnTo>
                    <a:pt x="63" y="990"/>
                  </a:lnTo>
                  <a:lnTo>
                    <a:pt x="53" y="1023"/>
                  </a:lnTo>
                  <a:lnTo>
                    <a:pt x="45" y="1057"/>
                  </a:lnTo>
                  <a:lnTo>
                    <a:pt x="36" y="1091"/>
                  </a:lnTo>
                  <a:lnTo>
                    <a:pt x="29" y="1125"/>
                  </a:lnTo>
                  <a:lnTo>
                    <a:pt x="22" y="1158"/>
                  </a:lnTo>
                  <a:lnTo>
                    <a:pt x="16" y="1194"/>
                  </a:lnTo>
                  <a:lnTo>
                    <a:pt x="11" y="1229"/>
                  </a:lnTo>
                  <a:lnTo>
                    <a:pt x="7" y="1264"/>
                  </a:lnTo>
                  <a:lnTo>
                    <a:pt x="4" y="1299"/>
                  </a:lnTo>
                  <a:lnTo>
                    <a:pt x="2" y="1335"/>
                  </a:lnTo>
                  <a:lnTo>
                    <a:pt x="1" y="1371"/>
                  </a:lnTo>
                  <a:lnTo>
                    <a:pt x="0" y="1407"/>
                  </a:lnTo>
                  <a:lnTo>
                    <a:pt x="203" y="1407"/>
                  </a:lnTo>
                  <a:lnTo>
                    <a:pt x="203" y="1376"/>
                  </a:lnTo>
                  <a:lnTo>
                    <a:pt x="204" y="1345"/>
                  </a:lnTo>
                  <a:lnTo>
                    <a:pt x="206" y="1314"/>
                  </a:lnTo>
                  <a:lnTo>
                    <a:pt x="209" y="1284"/>
                  </a:lnTo>
                  <a:lnTo>
                    <a:pt x="212" y="1254"/>
                  </a:lnTo>
                  <a:lnTo>
                    <a:pt x="216" y="1224"/>
                  </a:lnTo>
                  <a:lnTo>
                    <a:pt x="221" y="1194"/>
                  </a:lnTo>
                  <a:lnTo>
                    <a:pt x="228" y="1164"/>
                  </a:lnTo>
                  <a:lnTo>
                    <a:pt x="234" y="1135"/>
                  </a:lnTo>
                  <a:lnTo>
                    <a:pt x="241" y="1107"/>
                  </a:lnTo>
                  <a:lnTo>
                    <a:pt x="249" y="1078"/>
                  </a:lnTo>
                  <a:lnTo>
                    <a:pt x="257" y="1050"/>
                  </a:lnTo>
                  <a:lnTo>
                    <a:pt x="266" y="1023"/>
                  </a:lnTo>
                  <a:lnTo>
                    <a:pt x="276" y="994"/>
                  </a:lnTo>
                  <a:lnTo>
                    <a:pt x="287" y="967"/>
                  </a:lnTo>
                  <a:lnTo>
                    <a:pt x="298" y="940"/>
                  </a:lnTo>
                  <a:lnTo>
                    <a:pt x="309" y="912"/>
                  </a:lnTo>
                  <a:lnTo>
                    <a:pt x="321" y="887"/>
                  </a:lnTo>
                  <a:lnTo>
                    <a:pt x="335" y="860"/>
                  </a:lnTo>
                  <a:lnTo>
                    <a:pt x="348" y="835"/>
                  </a:lnTo>
                  <a:lnTo>
                    <a:pt x="362" y="809"/>
                  </a:lnTo>
                  <a:lnTo>
                    <a:pt x="378" y="784"/>
                  </a:lnTo>
                  <a:lnTo>
                    <a:pt x="393" y="759"/>
                  </a:lnTo>
                  <a:lnTo>
                    <a:pt x="409" y="735"/>
                  </a:lnTo>
                  <a:lnTo>
                    <a:pt x="426" y="711"/>
                  </a:lnTo>
                  <a:lnTo>
                    <a:pt x="443" y="688"/>
                  </a:lnTo>
                  <a:lnTo>
                    <a:pt x="460" y="664"/>
                  </a:lnTo>
                  <a:lnTo>
                    <a:pt x="479" y="642"/>
                  </a:lnTo>
                  <a:lnTo>
                    <a:pt x="497" y="619"/>
                  </a:lnTo>
                  <a:lnTo>
                    <a:pt x="516" y="598"/>
                  </a:lnTo>
                  <a:lnTo>
                    <a:pt x="537" y="577"/>
                  </a:lnTo>
                  <a:lnTo>
                    <a:pt x="557" y="556"/>
                  </a:lnTo>
                  <a:lnTo>
                    <a:pt x="578" y="536"/>
                  </a:lnTo>
                  <a:lnTo>
                    <a:pt x="599" y="516"/>
                  </a:lnTo>
                  <a:lnTo>
                    <a:pt x="620" y="497"/>
                  </a:lnTo>
                  <a:lnTo>
                    <a:pt x="643" y="479"/>
                  </a:lnTo>
                  <a:lnTo>
                    <a:pt x="665" y="460"/>
                  </a:lnTo>
                  <a:lnTo>
                    <a:pt x="688" y="442"/>
                  </a:lnTo>
                  <a:lnTo>
                    <a:pt x="711" y="426"/>
                  </a:lnTo>
                  <a:lnTo>
                    <a:pt x="735" y="409"/>
                  </a:lnTo>
                  <a:lnTo>
                    <a:pt x="759" y="393"/>
                  </a:lnTo>
                  <a:lnTo>
                    <a:pt x="785" y="378"/>
                  </a:lnTo>
                  <a:lnTo>
                    <a:pt x="809" y="362"/>
                  </a:lnTo>
                  <a:lnTo>
                    <a:pt x="835" y="348"/>
                  </a:lnTo>
                  <a:lnTo>
                    <a:pt x="860" y="335"/>
                  </a:lnTo>
                  <a:lnTo>
                    <a:pt x="887" y="322"/>
                  </a:lnTo>
                  <a:lnTo>
                    <a:pt x="913" y="309"/>
                  </a:lnTo>
                  <a:lnTo>
                    <a:pt x="940" y="297"/>
                  </a:lnTo>
                  <a:lnTo>
                    <a:pt x="967" y="287"/>
                  </a:lnTo>
                  <a:lnTo>
                    <a:pt x="995" y="276"/>
                  </a:lnTo>
                  <a:lnTo>
                    <a:pt x="1022" y="266"/>
                  </a:lnTo>
                  <a:lnTo>
                    <a:pt x="1051" y="257"/>
                  </a:lnTo>
                  <a:lnTo>
                    <a:pt x="1079" y="248"/>
                  </a:lnTo>
                  <a:lnTo>
                    <a:pt x="1108" y="240"/>
                  </a:lnTo>
                  <a:lnTo>
                    <a:pt x="1137" y="234"/>
                  </a:lnTo>
                  <a:lnTo>
                    <a:pt x="1165" y="227"/>
                  </a:lnTo>
                  <a:lnTo>
                    <a:pt x="1195" y="222"/>
                  </a:lnTo>
                  <a:lnTo>
                    <a:pt x="1224" y="216"/>
                  </a:lnTo>
                  <a:lnTo>
                    <a:pt x="1255" y="212"/>
                  </a:lnTo>
                  <a:lnTo>
                    <a:pt x="1285" y="208"/>
                  </a:lnTo>
                  <a:lnTo>
                    <a:pt x="1315" y="206"/>
                  </a:lnTo>
                  <a:lnTo>
                    <a:pt x="1347" y="204"/>
                  </a:lnTo>
                  <a:lnTo>
                    <a:pt x="1378" y="203"/>
                  </a:lnTo>
                  <a:lnTo>
                    <a:pt x="1408" y="202"/>
                  </a:lnTo>
                  <a:lnTo>
                    <a:pt x="14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6" name="Freeform 29"/>
            <p:cNvSpPr/>
            <p:nvPr/>
          </p:nvSpPr>
          <p:spPr>
            <a:xfrm>
              <a:off x="2119320" y="2735280"/>
              <a:ext cx="103320" cy="103320"/>
            </a:xfrm>
            <a:custGeom>
              <a:avLst/>
              <a:gdLst/>
              <a:ahLst/>
              <a:rect l="l" t="t" r="r" b="b"/>
              <a:pathLst>
                <a:path w="1169" h="1172">
                  <a:moveTo>
                    <a:pt x="1107" y="1172"/>
                  </a:moveTo>
                  <a:lnTo>
                    <a:pt x="1106" y="1035"/>
                  </a:lnTo>
                  <a:lnTo>
                    <a:pt x="148" y="0"/>
                  </a:lnTo>
                  <a:lnTo>
                    <a:pt x="0" y="138"/>
                  </a:lnTo>
                  <a:lnTo>
                    <a:pt x="958" y="1172"/>
                  </a:lnTo>
                  <a:lnTo>
                    <a:pt x="1107" y="1172"/>
                  </a:lnTo>
                  <a:lnTo>
                    <a:pt x="1169" y="1104"/>
                  </a:lnTo>
                  <a:lnTo>
                    <a:pt x="1106" y="1035"/>
                  </a:lnTo>
                  <a:lnTo>
                    <a:pt x="1107" y="1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7" name="Freeform 30"/>
            <p:cNvSpPr/>
            <p:nvPr/>
          </p:nvSpPr>
          <p:spPr>
            <a:xfrm>
              <a:off x="2131920" y="2825640"/>
              <a:ext cx="84240" cy="90720"/>
            </a:xfrm>
            <a:custGeom>
              <a:avLst/>
              <a:gdLst/>
              <a:ahLst/>
              <a:rect l="l" t="t" r="r" b="b"/>
              <a:pathLst>
                <a:path w="955" h="1019">
                  <a:moveTo>
                    <a:pt x="150" y="1019"/>
                  </a:moveTo>
                  <a:lnTo>
                    <a:pt x="955" y="137"/>
                  </a:lnTo>
                  <a:lnTo>
                    <a:pt x="805" y="0"/>
                  </a:lnTo>
                  <a:lnTo>
                    <a:pt x="0" y="882"/>
                  </a:lnTo>
                  <a:lnTo>
                    <a:pt x="150" y="10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Freeform 31"/>
            <p:cNvSpPr/>
            <p:nvPr/>
          </p:nvSpPr>
          <p:spPr>
            <a:xfrm>
              <a:off x="2144880" y="2657520"/>
              <a:ext cx="158760" cy="169920"/>
            </a:xfrm>
            <a:custGeom>
              <a:avLst/>
              <a:gdLst/>
              <a:ahLst/>
              <a:rect l="l" t="t" r="r" b="b"/>
              <a:pathLst>
                <a:path w="1810" h="1939">
                  <a:moveTo>
                    <a:pt x="1810" y="1801"/>
                  </a:moveTo>
                  <a:lnTo>
                    <a:pt x="149" y="0"/>
                  </a:lnTo>
                  <a:lnTo>
                    <a:pt x="0" y="137"/>
                  </a:lnTo>
                  <a:lnTo>
                    <a:pt x="1661" y="1939"/>
                  </a:lnTo>
                  <a:lnTo>
                    <a:pt x="1810" y="1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Freeform 32"/>
            <p:cNvSpPr/>
            <p:nvPr/>
          </p:nvSpPr>
          <p:spPr>
            <a:xfrm>
              <a:off x="2144880" y="2806560"/>
              <a:ext cx="161640" cy="189000"/>
            </a:xfrm>
            <a:custGeom>
              <a:avLst/>
              <a:gdLst/>
              <a:ahLst/>
              <a:rect l="l" t="t" r="r" b="b"/>
              <a:pathLst>
                <a:path w="1821" h="2150">
                  <a:moveTo>
                    <a:pt x="1665" y="0"/>
                  </a:moveTo>
                  <a:lnTo>
                    <a:pt x="0" y="2021"/>
                  </a:lnTo>
                  <a:lnTo>
                    <a:pt x="157" y="2150"/>
                  </a:lnTo>
                  <a:lnTo>
                    <a:pt x="1821" y="129"/>
                  </a:lnTo>
                  <a:lnTo>
                    <a:pt x="16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0" name="Freeform 33"/>
            <p:cNvSpPr/>
            <p:nvPr/>
          </p:nvSpPr>
          <p:spPr>
            <a:xfrm>
              <a:off x="1782720" y="2716200"/>
              <a:ext cx="96840" cy="111240"/>
            </a:xfrm>
            <a:custGeom>
              <a:avLst/>
              <a:gdLst/>
              <a:ahLst/>
              <a:rect l="l" t="t" r="r" b="b"/>
              <a:pathLst>
                <a:path w="1092" h="1249">
                  <a:moveTo>
                    <a:pt x="75" y="1249"/>
                  </a:moveTo>
                  <a:lnTo>
                    <a:pt x="220" y="1234"/>
                  </a:lnTo>
                  <a:lnTo>
                    <a:pt x="1092" y="124"/>
                  </a:lnTo>
                  <a:lnTo>
                    <a:pt x="932" y="0"/>
                  </a:lnTo>
                  <a:lnTo>
                    <a:pt x="60" y="1109"/>
                  </a:lnTo>
                  <a:lnTo>
                    <a:pt x="75" y="1249"/>
                  </a:lnTo>
                  <a:lnTo>
                    <a:pt x="60" y="1109"/>
                  </a:lnTo>
                  <a:lnTo>
                    <a:pt x="0" y="1185"/>
                  </a:lnTo>
                  <a:lnTo>
                    <a:pt x="75" y="1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1" name="Freeform 34"/>
            <p:cNvSpPr/>
            <p:nvPr/>
          </p:nvSpPr>
          <p:spPr>
            <a:xfrm>
              <a:off x="1789200" y="2813040"/>
              <a:ext cx="100080" cy="87480"/>
            </a:xfrm>
            <a:custGeom>
              <a:avLst/>
              <a:gdLst/>
              <a:ahLst/>
              <a:rect l="l" t="t" r="r" b="b"/>
              <a:pathLst>
                <a:path w="1121" h="987">
                  <a:moveTo>
                    <a:pt x="1121" y="831"/>
                  </a:moveTo>
                  <a:lnTo>
                    <a:pt x="130" y="0"/>
                  </a:lnTo>
                  <a:lnTo>
                    <a:pt x="0" y="155"/>
                  </a:lnTo>
                  <a:lnTo>
                    <a:pt x="990" y="987"/>
                  </a:lnTo>
                  <a:lnTo>
                    <a:pt x="1121" y="8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Freeform 35"/>
            <p:cNvSpPr/>
            <p:nvPr/>
          </p:nvSpPr>
          <p:spPr>
            <a:xfrm>
              <a:off x="1685880" y="2646360"/>
              <a:ext cx="176400" cy="189000"/>
            </a:xfrm>
            <a:custGeom>
              <a:avLst/>
              <a:gdLst/>
              <a:ahLst/>
              <a:rect l="l" t="t" r="r" b="b"/>
              <a:pathLst>
                <a:path w="2000" h="2142">
                  <a:moveTo>
                    <a:pt x="149" y="2142"/>
                  </a:moveTo>
                  <a:lnTo>
                    <a:pt x="2000" y="137"/>
                  </a:lnTo>
                  <a:lnTo>
                    <a:pt x="1852" y="0"/>
                  </a:lnTo>
                  <a:lnTo>
                    <a:pt x="0" y="2005"/>
                  </a:lnTo>
                  <a:lnTo>
                    <a:pt x="149" y="2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Rectangle 36"/>
            <p:cNvSpPr/>
            <p:nvPr/>
          </p:nvSpPr>
          <p:spPr>
            <a:xfrm>
              <a:off x="1919160" y="2836800"/>
              <a:ext cx="10008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Freeform 37"/>
            <p:cNvSpPr/>
            <p:nvPr/>
          </p:nvSpPr>
          <p:spPr>
            <a:xfrm>
              <a:off x="1919160" y="2819520"/>
              <a:ext cx="119160" cy="36360"/>
            </a:xfrm>
            <a:custGeom>
              <a:avLst/>
              <a:gdLst/>
              <a:ahLst/>
              <a:rect l="l" t="t" r="r" b="b"/>
              <a:pathLst>
                <a:path w="1333" h="406">
                  <a:moveTo>
                    <a:pt x="1333" y="203"/>
                  </a:moveTo>
                  <a:lnTo>
                    <a:pt x="1130" y="0"/>
                  </a:lnTo>
                  <a:lnTo>
                    <a:pt x="0" y="0"/>
                  </a:lnTo>
                  <a:lnTo>
                    <a:pt x="0" y="406"/>
                  </a:lnTo>
                  <a:lnTo>
                    <a:pt x="1130" y="406"/>
                  </a:lnTo>
                  <a:lnTo>
                    <a:pt x="1333" y="203"/>
                  </a:lnTo>
                  <a:lnTo>
                    <a:pt x="1333" y="0"/>
                  </a:lnTo>
                  <a:lnTo>
                    <a:pt x="1130" y="0"/>
                  </a:lnTo>
                  <a:lnTo>
                    <a:pt x="1333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5" name="Freeform 38"/>
            <p:cNvSpPr/>
            <p:nvPr/>
          </p:nvSpPr>
          <p:spPr>
            <a:xfrm>
              <a:off x="2001960" y="2836800"/>
              <a:ext cx="36360" cy="692280"/>
            </a:xfrm>
            <a:custGeom>
              <a:avLst/>
              <a:gdLst/>
              <a:ahLst/>
              <a:rect l="l" t="t" r="r" b="b"/>
              <a:pathLst>
                <a:path w="406" h="7833">
                  <a:moveTo>
                    <a:pt x="203" y="7833"/>
                  </a:moveTo>
                  <a:lnTo>
                    <a:pt x="406" y="7630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7630"/>
                  </a:lnTo>
                  <a:lnTo>
                    <a:pt x="203" y="7833"/>
                  </a:lnTo>
                  <a:lnTo>
                    <a:pt x="406" y="7833"/>
                  </a:lnTo>
                  <a:lnTo>
                    <a:pt x="406" y="7630"/>
                  </a:lnTo>
                  <a:lnTo>
                    <a:pt x="203" y="78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6" name="Freeform 39"/>
            <p:cNvSpPr/>
            <p:nvPr/>
          </p:nvSpPr>
          <p:spPr>
            <a:xfrm>
              <a:off x="1901880" y="3492360"/>
              <a:ext cx="117360" cy="36720"/>
            </a:xfrm>
            <a:custGeom>
              <a:avLst/>
              <a:gdLst/>
              <a:ahLst/>
              <a:rect l="l" t="t" r="r" b="b"/>
              <a:pathLst>
                <a:path w="1333" h="406">
                  <a:moveTo>
                    <a:pt x="0" y="203"/>
                  </a:moveTo>
                  <a:lnTo>
                    <a:pt x="203" y="406"/>
                  </a:lnTo>
                  <a:lnTo>
                    <a:pt x="1333" y="406"/>
                  </a:lnTo>
                  <a:lnTo>
                    <a:pt x="1333" y="0"/>
                  </a:lnTo>
                  <a:lnTo>
                    <a:pt x="203" y="0"/>
                  </a:lnTo>
                  <a:lnTo>
                    <a:pt x="0" y="203"/>
                  </a:lnTo>
                  <a:lnTo>
                    <a:pt x="0" y="406"/>
                  </a:lnTo>
                  <a:lnTo>
                    <a:pt x="203" y="406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Freeform 40"/>
            <p:cNvSpPr/>
            <p:nvPr/>
          </p:nvSpPr>
          <p:spPr>
            <a:xfrm>
              <a:off x="1901880" y="2819520"/>
              <a:ext cx="36360" cy="690480"/>
            </a:xfrm>
            <a:custGeom>
              <a:avLst/>
              <a:gdLst/>
              <a:ahLst/>
              <a:rect l="l" t="t" r="r" b="b"/>
              <a:pathLst>
                <a:path w="406" h="7833">
                  <a:moveTo>
                    <a:pt x="203" y="0"/>
                  </a:moveTo>
                  <a:lnTo>
                    <a:pt x="0" y="203"/>
                  </a:lnTo>
                  <a:lnTo>
                    <a:pt x="0" y="7833"/>
                  </a:lnTo>
                  <a:lnTo>
                    <a:pt x="406" y="7833"/>
                  </a:lnTo>
                  <a:lnTo>
                    <a:pt x="406" y="20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8" name="Freeform 41"/>
            <p:cNvSpPr/>
            <p:nvPr/>
          </p:nvSpPr>
          <p:spPr>
            <a:xfrm>
              <a:off x="1969920" y="2832120"/>
              <a:ext cx="98640" cy="36360"/>
            </a:xfrm>
            <a:custGeom>
              <a:avLst/>
              <a:gdLst/>
              <a:ahLst/>
              <a:rect l="l" t="t" r="r" b="b"/>
              <a:pathLst>
                <a:path w="1121" h="406">
                  <a:moveTo>
                    <a:pt x="1121" y="203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406"/>
                  </a:lnTo>
                  <a:lnTo>
                    <a:pt x="918" y="406"/>
                  </a:lnTo>
                  <a:lnTo>
                    <a:pt x="1121" y="203"/>
                  </a:lnTo>
                  <a:lnTo>
                    <a:pt x="1121" y="0"/>
                  </a:lnTo>
                  <a:lnTo>
                    <a:pt x="918" y="0"/>
                  </a:lnTo>
                  <a:lnTo>
                    <a:pt x="112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9" name="Freeform 42"/>
            <p:cNvSpPr/>
            <p:nvPr/>
          </p:nvSpPr>
          <p:spPr>
            <a:xfrm>
              <a:off x="2033640" y="2849400"/>
              <a:ext cx="34920" cy="61920"/>
            </a:xfrm>
            <a:custGeom>
              <a:avLst/>
              <a:gdLst/>
              <a:ahLst/>
              <a:rect l="l" t="t" r="r" b="b"/>
              <a:pathLst>
                <a:path w="406" h="697">
                  <a:moveTo>
                    <a:pt x="203" y="697"/>
                  </a:moveTo>
                  <a:lnTo>
                    <a:pt x="406" y="495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495"/>
                  </a:lnTo>
                  <a:lnTo>
                    <a:pt x="203" y="697"/>
                  </a:lnTo>
                  <a:lnTo>
                    <a:pt x="406" y="697"/>
                  </a:lnTo>
                  <a:lnTo>
                    <a:pt x="406" y="495"/>
                  </a:lnTo>
                  <a:lnTo>
                    <a:pt x="203" y="6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0" name="Freeform 43"/>
            <p:cNvSpPr/>
            <p:nvPr/>
          </p:nvSpPr>
          <p:spPr>
            <a:xfrm>
              <a:off x="1952640" y="2874960"/>
              <a:ext cx="98280" cy="36360"/>
            </a:xfrm>
            <a:custGeom>
              <a:avLst/>
              <a:gdLst/>
              <a:ahLst/>
              <a:rect l="l" t="t" r="r" b="b"/>
              <a:pathLst>
                <a:path w="1121" h="405">
                  <a:moveTo>
                    <a:pt x="0" y="203"/>
                  </a:moveTo>
                  <a:lnTo>
                    <a:pt x="203" y="405"/>
                  </a:lnTo>
                  <a:lnTo>
                    <a:pt x="1121" y="405"/>
                  </a:lnTo>
                  <a:lnTo>
                    <a:pt x="1121" y="0"/>
                  </a:lnTo>
                  <a:lnTo>
                    <a:pt x="203" y="0"/>
                  </a:lnTo>
                  <a:lnTo>
                    <a:pt x="0" y="203"/>
                  </a:lnTo>
                  <a:lnTo>
                    <a:pt x="0" y="405"/>
                  </a:lnTo>
                  <a:lnTo>
                    <a:pt x="203" y="405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Freeform 44"/>
            <p:cNvSpPr/>
            <p:nvPr/>
          </p:nvSpPr>
          <p:spPr>
            <a:xfrm>
              <a:off x="1952640" y="2832120"/>
              <a:ext cx="34920" cy="61920"/>
            </a:xfrm>
            <a:custGeom>
              <a:avLst/>
              <a:gdLst/>
              <a:ahLst/>
              <a:rect l="l" t="t" r="r" b="b"/>
              <a:pathLst>
                <a:path w="406" h="698">
                  <a:moveTo>
                    <a:pt x="203" y="0"/>
                  </a:moveTo>
                  <a:lnTo>
                    <a:pt x="0" y="203"/>
                  </a:lnTo>
                  <a:lnTo>
                    <a:pt x="0" y="698"/>
                  </a:lnTo>
                  <a:lnTo>
                    <a:pt x="406" y="698"/>
                  </a:lnTo>
                  <a:lnTo>
                    <a:pt x="406" y="20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Rectangle 45"/>
            <p:cNvSpPr/>
            <p:nvPr/>
          </p:nvSpPr>
          <p:spPr>
            <a:xfrm>
              <a:off x="1989000" y="2830680"/>
              <a:ext cx="117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Freeform 46"/>
            <p:cNvSpPr/>
            <p:nvPr/>
          </p:nvSpPr>
          <p:spPr>
            <a:xfrm>
              <a:off x="1989000" y="2830680"/>
              <a:ext cx="119160" cy="1440"/>
            </a:xfrm>
            <a:custGeom>
              <a:avLst/>
              <a:gdLst/>
              <a:ahLst/>
              <a:rect l="l" t="t" r="r" b="b"/>
              <a:pathLst>
                <a:path w="1348" h="13">
                  <a:moveTo>
                    <a:pt x="1348" y="7"/>
                  </a:moveTo>
                  <a:lnTo>
                    <a:pt x="134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342" y="13"/>
                  </a:lnTo>
                  <a:lnTo>
                    <a:pt x="1348" y="7"/>
                  </a:lnTo>
                  <a:lnTo>
                    <a:pt x="1348" y="0"/>
                  </a:lnTo>
                  <a:lnTo>
                    <a:pt x="1342" y="0"/>
                  </a:lnTo>
                  <a:lnTo>
                    <a:pt x="134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Freeform 47"/>
            <p:cNvSpPr/>
            <p:nvPr/>
          </p:nvSpPr>
          <p:spPr>
            <a:xfrm>
              <a:off x="2106720" y="2830680"/>
              <a:ext cx="1440" cy="687240"/>
            </a:xfrm>
            <a:custGeom>
              <a:avLst/>
              <a:gdLst/>
              <a:ahLst/>
              <a:rect l="l" t="t" r="r" b="b"/>
              <a:pathLst>
                <a:path w="12" h="7778">
                  <a:moveTo>
                    <a:pt x="6" y="7778"/>
                  </a:moveTo>
                  <a:lnTo>
                    <a:pt x="12" y="777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7772"/>
                  </a:lnTo>
                  <a:lnTo>
                    <a:pt x="6" y="7778"/>
                  </a:lnTo>
                  <a:lnTo>
                    <a:pt x="12" y="7778"/>
                  </a:lnTo>
                  <a:lnTo>
                    <a:pt x="12" y="7772"/>
                  </a:lnTo>
                  <a:lnTo>
                    <a:pt x="6" y="77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Freeform 48"/>
            <p:cNvSpPr/>
            <p:nvPr/>
          </p:nvSpPr>
          <p:spPr>
            <a:xfrm>
              <a:off x="1987560" y="3516480"/>
              <a:ext cx="119160" cy="1440"/>
            </a:xfrm>
            <a:custGeom>
              <a:avLst/>
              <a:gdLst/>
              <a:ahLst/>
              <a:rect l="l" t="t" r="r" b="b"/>
              <a:pathLst>
                <a:path w="1348" h="12">
                  <a:moveTo>
                    <a:pt x="0" y="6"/>
                  </a:moveTo>
                  <a:lnTo>
                    <a:pt x="6" y="12"/>
                  </a:lnTo>
                  <a:lnTo>
                    <a:pt x="1348" y="12"/>
                  </a:lnTo>
                  <a:lnTo>
                    <a:pt x="1348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Rectangle 49"/>
            <p:cNvSpPr/>
            <p:nvPr/>
          </p:nvSpPr>
          <p:spPr>
            <a:xfrm>
              <a:off x="1987560" y="2830680"/>
              <a:ext cx="14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Freeform 50"/>
            <p:cNvSpPr/>
            <p:nvPr/>
          </p:nvSpPr>
          <p:spPr>
            <a:xfrm>
              <a:off x="1716120" y="2901960"/>
              <a:ext cx="230040" cy="630360"/>
            </a:xfrm>
            <a:custGeom>
              <a:avLst/>
              <a:gdLst/>
              <a:ahLst/>
              <a:rect l="l" t="t" r="r" b="b"/>
              <a:pathLst>
                <a:path w="2611" h="7142">
                  <a:moveTo>
                    <a:pt x="610" y="7078"/>
                  </a:moveTo>
                  <a:lnTo>
                    <a:pt x="602" y="7142"/>
                  </a:lnTo>
                  <a:lnTo>
                    <a:pt x="630" y="7045"/>
                  </a:lnTo>
                  <a:lnTo>
                    <a:pt x="704" y="6783"/>
                  </a:lnTo>
                  <a:lnTo>
                    <a:pt x="849" y="6274"/>
                  </a:lnTo>
                  <a:lnTo>
                    <a:pt x="1089" y="5438"/>
                  </a:lnTo>
                  <a:lnTo>
                    <a:pt x="1446" y="4195"/>
                  </a:lnTo>
                  <a:lnTo>
                    <a:pt x="1945" y="2467"/>
                  </a:lnTo>
                  <a:lnTo>
                    <a:pt x="2611" y="169"/>
                  </a:lnTo>
                  <a:lnTo>
                    <a:pt x="2027" y="0"/>
                  </a:lnTo>
                  <a:lnTo>
                    <a:pt x="1363" y="2297"/>
                  </a:lnTo>
                  <a:lnTo>
                    <a:pt x="864" y="4029"/>
                  </a:lnTo>
                  <a:lnTo>
                    <a:pt x="504" y="5272"/>
                  </a:lnTo>
                  <a:lnTo>
                    <a:pt x="265" y="6108"/>
                  </a:lnTo>
                  <a:lnTo>
                    <a:pt x="119" y="6617"/>
                  </a:lnTo>
                  <a:lnTo>
                    <a:pt x="44" y="6881"/>
                  </a:lnTo>
                  <a:lnTo>
                    <a:pt x="17" y="6983"/>
                  </a:lnTo>
                  <a:lnTo>
                    <a:pt x="0" y="7078"/>
                  </a:lnTo>
                  <a:lnTo>
                    <a:pt x="610" y="70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Freeform 51"/>
            <p:cNvSpPr/>
            <p:nvPr/>
          </p:nvSpPr>
          <p:spPr>
            <a:xfrm>
              <a:off x="1790640" y="3178080"/>
              <a:ext cx="131760" cy="336600"/>
            </a:xfrm>
            <a:custGeom>
              <a:avLst/>
              <a:gdLst/>
              <a:ahLst/>
              <a:rect l="l" t="t" r="r" b="b"/>
              <a:pathLst>
                <a:path w="1492" h="3817">
                  <a:moveTo>
                    <a:pt x="1088" y="63"/>
                  </a:moveTo>
                  <a:lnTo>
                    <a:pt x="1290" y="50"/>
                  </a:lnTo>
                  <a:lnTo>
                    <a:pt x="1094" y="0"/>
                  </a:lnTo>
                  <a:lnTo>
                    <a:pt x="1079" y="51"/>
                  </a:lnTo>
                  <a:lnTo>
                    <a:pt x="1038" y="189"/>
                  </a:lnTo>
                  <a:lnTo>
                    <a:pt x="959" y="456"/>
                  </a:lnTo>
                  <a:lnTo>
                    <a:pt x="829" y="898"/>
                  </a:lnTo>
                  <a:lnTo>
                    <a:pt x="634" y="1557"/>
                  </a:lnTo>
                  <a:lnTo>
                    <a:pt x="363" y="2478"/>
                  </a:lnTo>
                  <a:lnTo>
                    <a:pt x="0" y="3702"/>
                  </a:lnTo>
                  <a:lnTo>
                    <a:pt x="389" y="3817"/>
                  </a:lnTo>
                  <a:lnTo>
                    <a:pt x="751" y="2592"/>
                  </a:lnTo>
                  <a:lnTo>
                    <a:pt x="1023" y="1672"/>
                  </a:lnTo>
                  <a:lnTo>
                    <a:pt x="1217" y="1013"/>
                  </a:lnTo>
                  <a:lnTo>
                    <a:pt x="1347" y="571"/>
                  </a:lnTo>
                  <a:lnTo>
                    <a:pt x="1427" y="303"/>
                  </a:lnTo>
                  <a:lnTo>
                    <a:pt x="1468" y="166"/>
                  </a:lnTo>
                  <a:lnTo>
                    <a:pt x="1482" y="115"/>
                  </a:lnTo>
                  <a:lnTo>
                    <a:pt x="1290" y="50"/>
                  </a:lnTo>
                  <a:lnTo>
                    <a:pt x="1492" y="38"/>
                  </a:lnTo>
                  <a:lnTo>
                    <a:pt x="1088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9" name="Freeform 52"/>
            <p:cNvSpPr/>
            <p:nvPr/>
          </p:nvSpPr>
          <p:spPr>
            <a:xfrm>
              <a:off x="1881360" y="2981160"/>
              <a:ext cx="41040" cy="203400"/>
            </a:xfrm>
            <a:custGeom>
              <a:avLst/>
              <a:gdLst/>
              <a:ahLst/>
              <a:rect l="l" t="t" r="r" b="b"/>
              <a:pathLst>
                <a:path w="474" h="2305">
                  <a:moveTo>
                    <a:pt x="7" y="1073"/>
                  </a:moveTo>
                  <a:lnTo>
                    <a:pt x="0" y="1138"/>
                  </a:lnTo>
                  <a:lnTo>
                    <a:pt x="70" y="2305"/>
                  </a:lnTo>
                  <a:lnTo>
                    <a:pt x="474" y="2280"/>
                  </a:lnTo>
                  <a:lnTo>
                    <a:pt x="404" y="1115"/>
                  </a:lnTo>
                  <a:lnTo>
                    <a:pt x="7" y="1073"/>
                  </a:lnTo>
                  <a:lnTo>
                    <a:pt x="404" y="1115"/>
                  </a:lnTo>
                  <a:lnTo>
                    <a:pt x="323" y="0"/>
                  </a:lnTo>
                  <a:lnTo>
                    <a:pt x="7" y="10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Freeform 53"/>
            <p:cNvSpPr/>
            <p:nvPr/>
          </p:nvSpPr>
          <p:spPr>
            <a:xfrm>
              <a:off x="1762200" y="3075120"/>
              <a:ext cx="154080" cy="446040"/>
            </a:xfrm>
            <a:custGeom>
              <a:avLst/>
              <a:gdLst/>
              <a:ahLst/>
              <a:rect l="l" t="t" r="r" b="b"/>
              <a:pathLst>
                <a:path w="1733" h="5051">
                  <a:moveTo>
                    <a:pt x="321" y="5051"/>
                  </a:moveTo>
                  <a:lnTo>
                    <a:pt x="391" y="4947"/>
                  </a:lnTo>
                  <a:lnTo>
                    <a:pt x="1733" y="108"/>
                  </a:lnTo>
                  <a:lnTo>
                    <a:pt x="1343" y="0"/>
                  </a:lnTo>
                  <a:lnTo>
                    <a:pt x="0" y="4839"/>
                  </a:lnTo>
                  <a:lnTo>
                    <a:pt x="321" y="5051"/>
                  </a:lnTo>
                  <a:lnTo>
                    <a:pt x="373" y="5010"/>
                  </a:lnTo>
                  <a:lnTo>
                    <a:pt x="391" y="4947"/>
                  </a:lnTo>
                  <a:lnTo>
                    <a:pt x="321" y="50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1" name="Freeform 54"/>
            <p:cNvSpPr/>
            <p:nvPr/>
          </p:nvSpPr>
          <p:spPr>
            <a:xfrm>
              <a:off x="1712880" y="3494160"/>
              <a:ext cx="77760" cy="44280"/>
            </a:xfrm>
            <a:custGeom>
              <a:avLst/>
              <a:gdLst/>
              <a:ahLst/>
              <a:rect l="l" t="t" r="r" b="b"/>
              <a:pathLst>
                <a:path w="891" h="520">
                  <a:moveTo>
                    <a:pt x="598" y="500"/>
                  </a:moveTo>
                  <a:lnTo>
                    <a:pt x="715" y="455"/>
                  </a:lnTo>
                  <a:lnTo>
                    <a:pt x="891" y="315"/>
                  </a:lnTo>
                  <a:lnTo>
                    <a:pt x="639" y="0"/>
                  </a:lnTo>
                  <a:lnTo>
                    <a:pt x="463" y="140"/>
                  </a:lnTo>
                  <a:lnTo>
                    <a:pt x="598" y="500"/>
                  </a:lnTo>
                  <a:lnTo>
                    <a:pt x="463" y="140"/>
                  </a:lnTo>
                  <a:lnTo>
                    <a:pt x="0" y="520"/>
                  </a:lnTo>
                  <a:lnTo>
                    <a:pt x="598" y="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2" name="Freeform 55"/>
            <p:cNvSpPr/>
            <p:nvPr/>
          </p:nvSpPr>
          <p:spPr>
            <a:xfrm>
              <a:off x="1763640" y="3495600"/>
              <a:ext cx="160560" cy="41400"/>
            </a:xfrm>
            <a:custGeom>
              <a:avLst/>
              <a:gdLst/>
              <a:ahLst/>
              <a:rect l="l" t="t" r="r" b="b"/>
              <a:pathLst>
                <a:path w="1810" h="475">
                  <a:moveTo>
                    <a:pt x="1800" y="193"/>
                  </a:moveTo>
                  <a:lnTo>
                    <a:pt x="1589" y="0"/>
                  </a:lnTo>
                  <a:lnTo>
                    <a:pt x="0" y="70"/>
                  </a:lnTo>
                  <a:lnTo>
                    <a:pt x="18" y="475"/>
                  </a:lnTo>
                  <a:lnTo>
                    <a:pt x="1607" y="404"/>
                  </a:lnTo>
                  <a:lnTo>
                    <a:pt x="1800" y="193"/>
                  </a:lnTo>
                  <a:lnTo>
                    <a:pt x="1607" y="404"/>
                  </a:lnTo>
                  <a:lnTo>
                    <a:pt x="1810" y="394"/>
                  </a:lnTo>
                  <a:lnTo>
                    <a:pt x="1800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3" name="Freeform 56"/>
            <p:cNvSpPr/>
            <p:nvPr/>
          </p:nvSpPr>
          <p:spPr>
            <a:xfrm>
              <a:off x="1874880" y="3151080"/>
              <a:ext cx="47520" cy="363600"/>
            </a:xfrm>
            <a:custGeom>
              <a:avLst/>
              <a:gdLst/>
              <a:ahLst/>
              <a:rect l="l" t="t" r="r" b="b"/>
              <a:pathLst>
                <a:path w="546" h="4111">
                  <a:moveTo>
                    <a:pt x="6" y="1193"/>
                  </a:moveTo>
                  <a:lnTo>
                    <a:pt x="0" y="1250"/>
                  </a:lnTo>
                  <a:lnTo>
                    <a:pt x="142" y="4111"/>
                  </a:lnTo>
                  <a:lnTo>
                    <a:pt x="546" y="4092"/>
                  </a:lnTo>
                  <a:lnTo>
                    <a:pt x="405" y="1231"/>
                  </a:lnTo>
                  <a:lnTo>
                    <a:pt x="6" y="1193"/>
                  </a:lnTo>
                  <a:lnTo>
                    <a:pt x="405" y="1231"/>
                  </a:lnTo>
                  <a:lnTo>
                    <a:pt x="324" y="0"/>
                  </a:lnTo>
                  <a:lnTo>
                    <a:pt x="6" y="1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4" name="Freeform 57"/>
            <p:cNvSpPr/>
            <p:nvPr/>
          </p:nvSpPr>
          <p:spPr>
            <a:xfrm>
              <a:off x="1814400" y="3257640"/>
              <a:ext cx="95400" cy="252360"/>
            </a:xfrm>
            <a:custGeom>
              <a:avLst/>
              <a:gdLst/>
              <a:ahLst/>
              <a:rect l="l" t="t" r="r" b="b"/>
              <a:pathLst>
                <a:path w="1084" h="2863">
                  <a:moveTo>
                    <a:pt x="237" y="2863"/>
                  </a:moveTo>
                  <a:lnTo>
                    <a:pt x="449" y="2709"/>
                  </a:lnTo>
                  <a:lnTo>
                    <a:pt x="1084" y="95"/>
                  </a:lnTo>
                  <a:lnTo>
                    <a:pt x="691" y="0"/>
                  </a:lnTo>
                  <a:lnTo>
                    <a:pt x="56" y="2613"/>
                  </a:lnTo>
                  <a:lnTo>
                    <a:pt x="237" y="2863"/>
                  </a:lnTo>
                  <a:lnTo>
                    <a:pt x="56" y="2613"/>
                  </a:lnTo>
                  <a:lnTo>
                    <a:pt x="0" y="2846"/>
                  </a:lnTo>
                  <a:lnTo>
                    <a:pt x="237" y="28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5" name="Freeform 58"/>
            <p:cNvSpPr/>
            <p:nvPr/>
          </p:nvSpPr>
          <p:spPr>
            <a:xfrm>
              <a:off x="1835280" y="3473280"/>
              <a:ext cx="61920" cy="41400"/>
            </a:xfrm>
            <a:custGeom>
              <a:avLst/>
              <a:gdLst/>
              <a:ahLst/>
              <a:rect l="l" t="t" r="r" b="b"/>
              <a:pathLst>
                <a:path w="713" h="455">
                  <a:moveTo>
                    <a:pt x="713" y="238"/>
                  </a:moveTo>
                  <a:lnTo>
                    <a:pt x="524" y="36"/>
                  </a:lnTo>
                  <a:lnTo>
                    <a:pt x="29" y="0"/>
                  </a:lnTo>
                  <a:lnTo>
                    <a:pt x="0" y="404"/>
                  </a:lnTo>
                  <a:lnTo>
                    <a:pt x="495" y="440"/>
                  </a:lnTo>
                  <a:lnTo>
                    <a:pt x="713" y="238"/>
                  </a:lnTo>
                  <a:lnTo>
                    <a:pt x="495" y="440"/>
                  </a:lnTo>
                  <a:lnTo>
                    <a:pt x="713" y="455"/>
                  </a:lnTo>
                  <a:lnTo>
                    <a:pt x="713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Freeform 59"/>
            <p:cNvSpPr/>
            <p:nvPr/>
          </p:nvSpPr>
          <p:spPr>
            <a:xfrm>
              <a:off x="1862280" y="3403440"/>
              <a:ext cx="34920" cy="90720"/>
            </a:xfrm>
            <a:custGeom>
              <a:avLst/>
              <a:gdLst/>
              <a:ahLst/>
              <a:rect l="l" t="t" r="r" b="b"/>
              <a:pathLst>
                <a:path w="407" h="1044">
                  <a:moveTo>
                    <a:pt x="22" y="0"/>
                  </a:moveTo>
                  <a:lnTo>
                    <a:pt x="0" y="90"/>
                  </a:lnTo>
                  <a:lnTo>
                    <a:pt x="0" y="1044"/>
                  </a:lnTo>
                  <a:lnTo>
                    <a:pt x="407" y="1044"/>
                  </a:lnTo>
                  <a:lnTo>
                    <a:pt x="407" y="90"/>
                  </a:lnTo>
                  <a:lnTo>
                    <a:pt x="22" y="0"/>
                  </a:lnTo>
                  <a:lnTo>
                    <a:pt x="0" y="43"/>
                  </a:lnTo>
                  <a:lnTo>
                    <a:pt x="0" y="9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7" name="Freeform 60"/>
            <p:cNvSpPr/>
            <p:nvPr/>
          </p:nvSpPr>
          <p:spPr>
            <a:xfrm>
              <a:off x="1863720" y="2874960"/>
              <a:ext cx="263520" cy="542880"/>
            </a:xfrm>
            <a:custGeom>
              <a:avLst/>
              <a:gdLst/>
              <a:ahLst/>
              <a:rect l="l" t="t" r="r" b="b"/>
              <a:pathLst>
                <a:path w="2998" h="6170">
                  <a:moveTo>
                    <a:pt x="2998" y="816"/>
                  </a:moveTo>
                  <a:lnTo>
                    <a:pt x="2614" y="727"/>
                  </a:lnTo>
                  <a:lnTo>
                    <a:pt x="0" y="5990"/>
                  </a:lnTo>
                  <a:lnTo>
                    <a:pt x="363" y="6170"/>
                  </a:lnTo>
                  <a:lnTo>
                    <a:pt x="2977" y="907"/>
                  </a:lnTo>
                  <a:lnTo>
                    <a:pt x="2998" y="816"/>
                  </a:lnTo>
                  <a:lnTo>
                    <a:pt x="2981" y="0"/>
                  </a:lnTo>
                  <a:lnTo>
                    <a:pt x="2614" y="727"/>
                  </a:lnTo>
                  <a:lnTo>
                    <a:pt x="2998" y="8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Freeform 61"/>
            <p:cNvSpPr/>
            <p:nvPr/>
          </p:nvSpPr>
          <p:spPr>
            <a:xfrm>
              <a:off x="2092320" y="2946240"/>
              <a:ext cx="38160" cy="584280"/>
            </a:xfrm>
            <a:custGeom>
              <a:avLst/>
              <a:gdLst/>
              <a:ahLst/>
              <a:rect l="l" t="t" r="r" b="b"/>
              <a:pathLst>
                <a:path w="439" h="6631">
                  <a:moveTo>
                    <a:pt x="236" y="6631"/>
                  </a:moveTo>
                  <a:lnTo>
                    <a:pt x="439" y="6429"/>
                  </a:lnTo>
                  <a:lnTo>
                    <a:pt x="404" y="0"/>
                  </a:lnTo>
                  <a:lnTo>
                    <a:pt x="0" y="2"/>
                  </a:lnTo>
                  <a:lnTo>
                    <a:pt x="34" y="6430"/>
                  </a:lnTo>
                  <a:lnTo>
                    <a:pt x="236" y="6631"/>
                  </a:lnTo>
                  <a:lnTo>
                    <a:pt x="34" y="6430"/>
                  </a:lnTo>
                  <a:lnTo>
                    <a:pt x="35" y="6631"/>
                  </a:lnTo>
                  <a:lnTo>
                    <a:pt x="236" y="66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9" name="Freeform 62"/>
            <p:cNvSpPr/>
            <p:nvPr/>
          </p:nvSpPr>
          <p:spPr>
            <a:xfrm>
              <a:off x="2112840" y="3495600"/>
              <a:ext cx="155520" cy="34920"/>
            </a:xfrm>
            <a:custGeom>
              <a:avLst/>
              <a:gdLst/>
              <a:ahLst/>
              <a:rect l="l" t="t" r="r" b="b"/>
              <a:pathLst>
                <a:path w="1767" h="405">
                  <a:moveTo>
                    <a:pt x="1767" y="304"/>
                  </a:moveTo>
                  <a:lnTo>
                    <a:pt x="1590" y="0"/>
                  </a:lnTo>
                  <a:lnTo>
                    <a:pt x="0" y="0"/>
                  </a:lnTo>
                  <a:lnTo>
                    <a:pt x="0" y="405"/>
                  </a:lnTo>
                  <a:lnTo>
                    <a:pt x="1590" y="405"/>
                  </a:lnTo>
                  <a:lnTo>
                    <a:pt x="1767" y="304"/>
                  </a:lnTo>
                  <a:lnTo>
                    <a:pt x="1590" y="405"/>
                  </a:lnTo>
                  <a:lnTo>
                    <a:pt x="1708" y="405"/>
                  </a:lnTo>
                  <a:lnTo>
                    <a:pt x="1767" y="3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0" name="Freeform 63"/>
            <p:cNvSpPr/>
            <p:nvPr/>
          </p:nvSpPr>
          <p:spPr>
            <a:xfrm>
              <a:off x="2238480" y="3483000"/>
              <a:ext cx="46080" cy="39600"/>
            </a:xfrm>
            <a:custGeom>
              <a:avLst/>
              <a:gdLst/>
              <a:ahLst/>
              <a:rect l="l" t="t" r="r" b="b"/>
              <a:pathLst>
                <a:path w="534" h="449">
                  <a:moveTo>
                    <a:pt x="511" y="45"/>
                  </a:moveTo>
                  <a:lnTo>
                    <a:pt x="140" y="0"/>
                  </a:lnTo>
                  <a:lnTo>
                    <a:pt x="0" y="248"/>
                  </a:lnTo>
                  <a:lnTo>
                    <a:pt x="352" y="449"/>
                  </a:lnTo>
                  <a:lnTo>
                    <a:pt x="493" y="202"/>
                  </a:lnTo>
                  <a:lnTo>
                    <a:pt x="511" y="45"/>
                  </a:lnTo>
                  <a:lnTo>
                    <a:pt x="493" y="202"/>
                  </a:lnTo>
                  <a:lnTo>
                    <a:pt x="534" y="128"/>
                  </a:lnTo>
                  <a:lnTo>
                    <a:pt x="51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Freeform 64"/>
            <p:cNvSpPr/>
            <p:nvPr/>
          </p:nvSpPr>
          <p:spPr>
            <a:xfrm>
              <a:off x="2111400" y="2911320"/>
              <a:ext cx="171360" cy="586080"/>
            </a:xfrm>
            <a:custGeom>
              <a:avLst/>
              <a:gdLst/>
              <a:ahLst/>
              <a:rect l="l" t="t" r="r" b="b"/>
              <a:pathLst>
                <a:path w="1951" h="6641">
                  <a:moveTo>
                    <a:pt x="0" y="1217"/>
                  </a:moveTo>
                  <a:lnTo>
                    <a:pt x="8" y="1273"/>
                  </a:lnTo>
                  <a:lnTo>
                    <a:pt x="1562" y="6641"/>
                  </a:lnTo>
                  <a:lnTo>
                    <a:pt x="1951" y="6529"/>
                  </a:lnTo>
                  <a:lnTo>
                    <a:pt x="397" y="1160"/>
                  </a:lnTo>
                  <a:lnTo>
                    <a:pt x="0" y="1217"/>
                  </a:lnTo>
                  <a:lnTo>
                    <a:pt x="397" y="1160"/>
                  </a:lnTo>
                  <a:lnTo>
                    <a:pt x="29" y="0"/>
                  </a:lnTo>
                  <a:lnTo>
                    <a:pt x="0" y="1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2" name="Freeform 65"/>
            <p:cNvSpPr/>
            <p:nvPr/>
          </p:nvSpPr>
          <p:spPr>
            <a:xfrm>
              <a:off x="2111400" y="3017880"/>
              <a:ext cx="38160" cy="492120"/>
            </a:xfrm>
            <a:custGeom>
              <a:avLst/>
              <a:gdLst/>
              <a:ahLst/>
              <a:rect l="l" t="t" r="r" b="b"/>
              <a:pathLst>
                <a:path w="440" h="5571">
                  <a:moveTo>
                    <a:pt x="233" y="5571"/>
                  </a:moveTo>
                  <a:lnTo>
                    <a:pt x="440" y="5368"/>
                  </a:lnTo>
                  <a:lnTo>
                    <a:pt x="405" y="0"/>
                  </a:lnTo>
                  <a:lnTo>
                    <a:pt x="0" y="1"/>
                  </a:lnTo>
                  <a:lnTo>
                    <a:pt x="36" y="5370"/>
                  </a:lnTo>
                  <a:lnTo>
                    <a:pt x="233" y="5571"/>
                  </a:lnTo>
                  <a:lnTo>
                    <a:pt x="36" y="5370"/>
                  </a:lnTo>
                  <a:lnTo>
                    <a:pt x="37" y="5566"/>
                  </a:lnTo>
                  <a:lnTo>
                    <a:pt x="233" y="5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3" name="Freeform 66"/>
            <p:cNvSpPr/>
            <p:nvPr/>
          </p:nvSpPr>
          <p:spPr>
            <a:xfrm>
              <a:off x="2131920" y="3473280"/>
              <a:ext cx="133560" cy="39960"/>
            </a:xfrm>
            <a:custGeom>
              <a:avLst/>
              <a:gdLst/>
              <a:ahLst/>
              <a:rect l="l" t="t" r="r" b="b"/>
              <a:pathLst>
                <a:path w="1509" h="446">
                  <a:moveTo>
                    <a:pt x="1436" y="183"/>
                  </a:moveTo>
                  <a:lnTo>
                    <a:pt x="1246" y="36"/>
                  </a:lnTo>
                  <a:lnTo>
                    <a:pt x="11" y="0"/>
                  </a:lnTo>
                  <a:lnTo>
                    <a:pt x="0" y="404"/>
                  </a:lnTo>
                  <a:lnTo>
                    <a:pt x="1235" y="440"/>
                  </a:lnTo>
                  <a:lnTo>
                    <a:pt x="1436" y="183"/>
                  </a:lnTo>
                  <a:lnTo>
                    <a:pt x="1235" y="440"/>
                  </a:lnTo>
                  <a:lnTo>
                    <a:pt x="1509" y="446"/>
                  </a:lnTo>
                  <a:lnTo>
                    <a:pt x="1436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4" name="Freeform 67"/>
            <p:cNvSpPr/>
            <p:nvPr/>
          </p:nvSpPr>
          <p:spPr>
            <a:xfrm>
              <a:off x="2130480" y="3038400"/>
              <a:ext cx="128520" cy="460440"/>
            </a:xfrm>
            <a:custGeom>
              <a:avLst/>
              <a:gdLst/>
              <a:ahLst/>
              <a:rect l="l" t="t" r="r" b="b"/>
              <a:pathLst>
                <a:path w="1458" h="5235">
                  <a:moveTo>
                    <a:pt x="0" y="1401"/>
                  </a:moveTo>
                  <a:lnTo>
                    <a:pt x="8" y="1455"/>
                  </a:lnTo>
                  <a:lnTo>
                    <a:pt x="1067" y="5235"/>
                  </a:lnTo>
                  <a:lnTo>
                    <a:pt x="1458" y="5126"/>
                  </a:lnTo>
                  <a:lnTo>
                    <a:pt x="398" y="1346"/>
                  </a:lnTo>
                  <a:lnTo>
                    <a:pt x="0" y="1401"/>
                  </a:lnTo>
                  <a:lnTo>
                    <a:pt x="398" y="1346"/>
                  </a:lnTo>
                  <a:lnTo>
                    <a:pt x="0" y="0"/>
                  </a:lnTo>
                  <a:lnTo>
                    <a:pt x="0" y="14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5" name="Freeform 68"/>
            <p:cNvSpPr/>
            <p:nvPr/>
          </p:nvSpPr>
          <p:spPr>
            <a:xfrm>
              <a:off x="2130480" y="3162240"/>
              <a:ext cx="34920" cy="331920"/>
            </a:xfrm>
            <a:custGeom>
              <a:avLst/>
              <a:gdLst/>
              <a:ahLst/>
              <a:rect l="l" t="t" r="r" b="b"/>
              <a:pathLst>
                <a:path w="406" h="3780">
                  <a:moveTo>
                    <a:pt x="213" y="3770"/>
                  </a:moveTo>
                  <a:lnTo>
                    <a:pt x="406" y="3568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3568"/>
                  </a:lnTo>
                  <a:lnTo>
                    <a:pt x="213" y="3770"/>
                  </a:lnTo>
                  <a:lnTo>
                    <a:pt x="0" y="3568"/>
                  </a:lnTo>
                  <a:lnTo>
                    <a:pt x="0" y="3780"/>
                  </a:lnTo>
                  <a:lnTo>
                    <a:pt x="213" y="37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6" name="Freeform 69"/>
            <p:cNvSpPr/>
            <p:nvPr/>
          </p:nvSpPr>
          <p:spPr>
            <a:xfrm>
              <a:off x="2146320" y="3454560"/>
              <a:ext cx="82440" cy="39600"/>
            </a:xfrm>
            <a:custGeom>
              <a:avLst/>
              <a:gdLst/>
              <a:ahLst/>
              <a:rect l="l" t="t" r="r" b="b"/>
              <a:pathLst>
                <a:path w="938" h="440">
                  <a:moveTo>
                    <a:pt x="879" y="153"/>
                  </a:moveTo>
                  <a:lnTo>
                    <a:pt x="671" y="0"/>
                  </a:lnTo>
                  <a:lnTo>
                    <a:pt x="0" y="36"/>
                  </a:lnTo>
                  <a:lnTo>
                    <a:pt x="20" y="440"/>
                  </a:lnTo>
                  <a:lnTo>
                    <a:pt x="692" y="405"/>
                  </a:lnTo>
                  <a:lnTo>
                    <a:pt x="879" y="153"/>
                  </a:lnTo>
                  <a:lnTo>
                    <a:pt x="692" y="405"/>
                  </a:lnTo>
                  <a:lnTo>
                    <a:pt x="938" y="391"/>
                  </a:lnTo>
                  <a:lnTo>
                    <a:pt x="879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Freeform 70"/>
            <p:cNvSpPr/>
            <p:nvPr/>
          </p:nvSpPr>
          <p:spPr>
            <a:xfrm>
              <a:off x="2139840" y="3141720"/>
              <a:ext cx="84240" cy="334800"/>
            </a:xfrm>
            <a:custGeom>
              <a:avLst/>
              <a:gdLst/>
              <a:ahLst/>
              <a:rect l="l" t="t" r="r" b="b"/>
              <a:pathLst>
                <a:path w="958" h="3815">
                  <a:moveTo>
                    <a:pt x="64" y="1800"/>
                  </a:moveTo>
                  <a:lnTo>
                    <a:pt x="69" y="1836"/>
                  </a:lnTo>
                  <a:lnTo>
                    <a:pt x="564" y="3815"/>
                  </a:lnTo>
                  <a:lnTo>
                    <a:pt x="958" y="3716"/>
                  </a:lnTo>
                  <a:lnTo>
                    <a:pt x="463" y="1738"/>
                  </a:lnTo>
                  <a:lnTo>
                    <a:pt x="64" y="1800"/>
                  </a:lnTo>
                  <a:lnTo>
                    <a:pt x="463" y="1738"/>
                  </a:lnTo>
                  <a:lnTo>
                    <a:pt x="0" y="0"/>
                  </a:lnTo>
                  <a:lnTo>
                    <a:pt x="64" y="1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Freeform 71"/>
            <p:cNvSpPr/>
            <p:nvPr/>
          </p:nvSpPr>
          <p:spPr>
            <a:xfrm>
              <a:off x="2144880" y="3297240"/>
              <a:ext cx="45720" cy="162000"/>
            </a:xfrm>
            <a:custGeom>
              <a:avLst/>
              <a:gdLst/>
              <a:ahLst/>
              <a:rect l="l" t="t" r="r" b="b"/>
              <a:pathLst>
                <a:path w="510" h="1826">
                  <a:moveTo>
                    <a:pt x="510" y="1802"/>
                  </a:moveTo>
                  <a:lnTo>
                    <a:pt x="404" y="0"/>
                  </a:lnTo>
                  <a:lnTo>
                    <a:pt x="0" y="25"/>
                  </a:lnTo>
                  <a:lnTo>
                    <a:pt x="106" y="1826"/>
                  </a:lnTo>
                  <a:lnTo>
                    <a:pt x="510" y="1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9" name="Freeform 72"/>
            <p:cNvSpPr/>
            <p:nvPr/>
          </p:nvSpPr>
          <p:spPr>
            <a:xfrm>
              <a:off x="1674720" y="2833560"/>
              <a:ext cx="212760" cy="716040"/>
            </a:xfrm>
            <a:custGeom>
              <a:avLst/>
              <a:gdLst/>
              <a:ahLst/>
              <a:rect l="l" t="t" r="r" b="b"/>
              <a:pathLst>
                <a:path w="2421" h="8119">
                  <a:moveTo>
                    <a:pt x="23" y="8119"/>
                  </a:moveTo>
                  <a:lnTo>
                    <a:pt x="55" y="8102"/>
                  </a:lnTo>
                  <a:lnTo>
                    <a:pt x="2421" y="14"/>
                  </a:lnTo>
                  <a:lnTo>
                    <a:pt x="2373" y="0"/>
                  </a:lnTo>
                  <a:lnTo>
                    <a:pt x="6" y="8088"/>
                  </a:lnTo>
                  <a:lnTo>
                    <a:pt x="23" y="8119"/>
                  </a:lnTo>
                  <a:lnTo>
                    <a:pt x="6" y="8088"/>
                  </a:lnTo>
                  <a:lnTo>
                    <a:pt x="0" y="8111"/>
                  </a:lnTo>
                  <a:lnTo>
                    <a:pt x="23" y="8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0" name="Freeform 73"/>
            <p:cNvSpPr/>
            <p:nvPr/>
          </p:nvSpPr>
          <p:spPr>
            <a:xfrm>
              <a:off x="1676520" y="3544920"/>
              <a:ext cx="20520" cy="11160"/>
            </a:xfrm>
            <a:custGeom>
              <a:avLst/>
              <a:gdLst/>
              <a:ahLst/>
              <a:rect l="l" t="t" r="r" b="b"/>
              <a:pathLst>
                <a:path w="227" h="119">
                  <a:moveTo>
                    <a:pt x="227" y="71"/>
                  </a:moveTo>
                  <a:lnTo>
                    <a:pt x="16" y="0"/>
                  </a:lnTo>
                  <a:lnTo>
                    <a:pt x="0" y="48"/>
                  </a:lnTo>
                  <a:lnTo>
                    <a:pt x="212" y="119"/>
                  </a:lnTo>
                  <a:lnTo>
                    <a:pt x="22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1" name="Freeform 74"/>
            <p:cNvSpPr/>
            <p:nvPr/>
          </p:nvSpPr>
          <p:spPr>
            <a:xfrm>
              <a:off x="1663560" y="2828880"/>
              <a:ext cx="244440" cy="723960"/>
            </a:xfrm>
            <a:custGeom>
              <a:avLst/>
              <a:gdLst/>
              <a:ahLst/>
              <a:rect l="l" t="t" r="r" b="b"/>
              <a:pathLst>
                <a:path w="2773" h="8202">
                  <a:moveTo>
                    <a:pt x="388" y="8202"/>
                  </a:moveTo>
                  <a:lnTo>
                    <a:pt x="2773" y="114"/>
                  </a:lnTo>
                  <a:lnTo>
                    <a:pt x="2384" y="0"/>
                  </a:lnTo>
                  <a:lnTo>
                    <a:pt x="0" y="8088"/>
                  </a:lnTo>
                  <a:lnTo>
                    <a:pt x="388" y="8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2" name="Freeform 75"/>
            <p:cNvSpPr/>
            <p:nvPr/>
          </p:nvSpPr>
          <p:spPr>
            <a:xfrm>
              <a:off x="1665360" y="3433680"/>
              <a:ext cx="61920" cy="119160"/>
            </a:xfrm>
            <a:custGeom>
              <a:avLst/>
              <a:gdLst/>
              <a:ahLst/>
              <a:rect l="l" t="t" r="r" b="b"/>
              <a:pathLst>
                <a:path w="705" h="1353">
                  <a:moveTo>
                    <a:pt x="366" y="0"/>
                  </a:moveTo>
                  <a:lnTo>
                    <a:pt x="705" y="99"/>
                  </a:lnTo>
                  <a:lnTo>
                    <a:pt x="339" y="1353"/>
                  </a:lnTo>
                  <a:lnTo>
                    <a:pt x="0" y="1254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3" name="Freeform 76"/>
            <p:cNvSpPr/>
            <p:nvPr/>
          </p:nvSpPr>
          <p:spPr>
            <a:xfrm>
              <a:off x="1697040" y="3432240"/>
              <a:ext cx="33480" cy="12600"/>
            </a:xfrm>
            <a:custGeom>
              <a:avLst/>
              <a:gdLst/>
              <a:ahLst/>
              <a:rect l="l" t="t" r="r" b="b"/>
              <a:pathLst>
                <a:path w="378" h="148">
                  <a:moveTo>
                    <a:pt x="370" y="131"/>
                  </a:moveTo>
                  <a:lnTo>
                    <a:pt x="353" y="99"/>
                  </a:lnTo>
                  <a:lnTo>
                    <a:pt x="14" y="0"/>
                  </a:lnTo>
                  <a:lnTo>
                    <a:pt x="0" y="49"/>
                  </a:lnTo>
                  <a:lnTo>
                    <a:pt x="339" y="148"/>
                  </a:lnTo>
                  <a:lnTo>
                    <a:pt x="370" y="131"/>
                  </a:lnTo>
                  <a:lnTo>
                    <a:pt x="378" y="107"/>
                  </a:lnTo>
                  <a:lnTo>
                    <a:pt x="353" y="99"/>
                  </a:lnTo>
                  <a:lnTo>
                    <a:pt x="370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4" name="Freeform 77"/>
            <p:cNvSpPr/>
            <p:nvPr/>
          </p:nvSpPr>
          <p:spPr>
            <a:xfrm>
              <a:off x="1692360" y="3441600"/>
              <a:ext cx="36360" cy="114480"/>
            </a:xfrm>
            <a:custGeom>
              <a:avLst/>
              <a:gdLst/>
              <a:ahLst/>
              <a:rect l="l" t="t" r="r" b="b"/>
              <a:pathLst>
                <a:path w="414" h="1292">
                  <a:moveTo>
                    <a:pt x="17" y="1284"/>
                  </a:moveTo>
                  <a:lnTo>
                    <a:pt x="48" y="1268"/>
                  </a:lnTo>
                  <a:lnTo>
                    <a:pt x="414" y="14"/>
                  </a:lnTo>
                  <a:lnTo>
                    <a:pt x="367" y="0"/>
                  </a:lnTo>
                  <a:lnTo>
                    <a:pt x="0" y="1254"/>
                  </a:lnTo>
                  <a:lnTo>
                    <a:pt x="17" y="1284"/>
                  </a:lnTo>
                  <a:lnTo>
                    <a:pt x="41" y="1292"/>
                  </a:lnTo>
                  <a:lnTo>
                    <a:pt x="48" y="1268"/>
                  </a:lnTo>
                  <a:lnTo>
                    <a:pt x="17" y="12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5" name="Freeform 78"/>
            <p:cNvSpPr/>
            <p:nvPr/>
          </p:nvSpPr>
          <p:spPr>
            <a:xfrm>
              <a:off x="1662120" y="3541680"/>
              <a:ext cx="33480" cy="12600"/>
            </a:xfrm>
            <a:custGeom>
              <a:avLst/>
              <a:gdLst/>
              <a:ahLst/>
              <a:rect l="l" t="t" r="r" b="b"/>
              <a:pathLst>
                <a:path w="378" h="146">
                  <a:moveTo>
                    <a:pt x="7" y="17"/>
                  </a:moveTo>
                  <a:lnTo>
                    <a:pt x="25" y="47"/>
                  </a:lnTo>
                  <a:lnTo>
                    <a:pt x="364" y="146"/>
                  </a:lnTo>
                  <a:lnTo>
                    <a:pt x="378" y="99"/>
                  </a:lnTo>
                  <a:lnTo>
                    <a:pt x="39" y="0"/>
                  </a:lnTo>
                  <a:lnTo>
                    <a:pt x="7" y="17"/>
                  </a:lnTo>
                  <a:lnTo>
                    <a:pt x="0" y="41"/>
                  </a:lnTo>
                  <a:lnTo>
                    <a:pt x="25" y="47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6" name="Freeform 79"/>
            <p:cNvSpPr/>
            <p:nvPr/>
          </p:nvSpPr>
          <p:spPr>
            <a:xfrm>
              <a:off x="1662120" y="3430440"/>
              <a:ext cx="36360" cy="114480"/>
            </a:xfrm>
            <a:custGeom>
              <a:avLst/>
              <a:gdLst/>
              <a:ahLst/>
              <a:rect l="l" t="t" r="r" b="b"/>
              <a:pathLst>
                <a:path w="416" h="1292">
                  <a:moveTo>
                    <a:pt x="398" y="7"/>
                  </a:moveTo>
                  <a:lnTo>
                    <a:pt x="367" y="25"/>
                  </a:lnTo>
                  <a:lnTo>
                    <a:pt x="0" y="1279"/>
                  </a:lnTo>
                  <a:lnTo>
                    <a:pt x="49" y="1292"/>
                  </a:lnTo>
                  <a:lnTo>
                    <a:pt x="416" y="39"/>
                  </a:lnTo>
                  <a:lnTo>
                    <a:pt x="398" y="7"/>
                  </a:lnTo>
                  <a:lnTo>
                    <a:pt x="374" y="0"/>
                  </a:lnTo>
                  <a:lnTo>
                    <a:pt x="367" y="25"/>
                  </a:lnTo>
                  <a:lnTo>
                    <a:pt x="39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7" name="Freeform 80"/>
            <p:cNvSpPr/>
            <p:nvPr/>
          </p:nvSpPr>
          <p:spPr>
            <a:xfrm>
              <a:off x="2298600" y="3517920"/>
              <a:ext cx="11160" cy="38160"/>
            </a:xfrm>
            <a:custGeom>
              <a:avLst/>
              <a:gdLst/>
              <a:ahLst/>
              <a:rect l="l" t="t" r="r" b="b"/>
              <a:pathLst>
                <a:path w="138" h="434">
                  <a:moveTo>
                    <a:pt x="138" y="423"/>
                  </a:moveTo>
                  <a:lnTo>
                    <a:pt x="50" y="0"/>
                  </a:lnTo>
                  <a:lnTo>
                    <a:pt x="0" y="10"/>
                  </a:lnTo>
                  <a:lnTo>
                    <a:pt x="89" y="434"/>
                  </a:lnTo>
                  <a:lnTo>
                    <a:pt x="138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Freeform 81"/>
            <p:cNvSpPr/>
            <p:nvPr/>
          </p:nvSpPr>
          <p:spPr>
            <a:xfrm>
              <a:off x="2301840" y="3513240"/>
              <a:ext cx="12600" cy="41040"/>
            </a:xfrm>
            <a:custGeom>
              <a:avLst/>
              <a:gdLst/>
              <a:ahLst/>
              <a:rect l="l" t="t" r="r" b="b"/>
              <a:pathLst>
                <a:path w="155" h="469">
                  <a:moveTo>
                    <a:pt x="155" y="458"/>
                  </a:moveTo>
                  <a:lnTo>
                    <a:pt x="49" y="0"/>
                  </a:lnTo>
                  <a:lnTo>
                    <a:pt x="0" y="11"/>
                  </a:lnTo>
                  <a:lnTo>
                    <a:pt x="106" y="469"/>
                  </a:lnTo>
                  <a:lnTo>
                    <a:pt x="155" y="458"/>
                  </a:lnTo>
                  <a:lnTo>
                    <a:pt x="106" y="469"/>
                  </a:lnTo>
                  <a:lnTo>
                    <a:pt x="131" y="463"/>
                  </a:lnTo>
                  <a:lnTo>
                    <a:pt x="155" y="458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Freeform 82"/>
            <p:cNvSpPr/>
            <p:nvPr/>
          </p:nvSpPr>
          <p:spPr>
            <a:xfrm>
              <a:off x="2301840" y="3513240"/>
              <a:ext cx="12600" cy="41040"/>
            </a:xfrm>
            <a:custGeom>
              <a:avLst/>
              <a:gdLst/>
              <a:ahLst/>
              <a:rect l="l" t="t" r="r" b="b"/>
              <a:pathLst>
                <a:path w="155" h="469">
                  <a:moveTo>
                    <a:pt x="0" y="11"/>
                  </a:moveTo>
                  <a:lnTo>
                    <a:pt x="106" y="469"/>
                  </a:lnTo>
                  <a:lnTo>
                    <a:pt x="155" y="458"/>
                  </a:lnTo>
                  <a:lnTo>
                    <a:pt x="49" y="0"/>
                  </a:lnTo>
                  <a:lnTo>
                    <a:pt x="0" y="11"/>
                  </a:lnTo>
                  <a:lnTo>
                    <a:pt x="49" y="0"/>
                  </a:lnTo>
                  <a:lnTo>
                    <a:pt x="24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0" name="Freeform 83"/>
            <p:cNvSpPr/>
            <p:nvPr/>
          </p:nvSpPr>
          <p:spPr>
            <a:xfrm>
              <a:off x="2306520" y="3516480"/>
              <a:ext cx="14400" cy="25200"/>
            </a:xfrm>
            <a:custGeom>
              <a:avLst/>
              <a:gdLst/>
              <a:ahLst/>
              <a:rect l="l" t="t" r="r" b="b"/>
              <a:pathLst>
                <a:path w="168" h="285">
                  <a:moveTo>
                    <a:pt x="168" y="274"/>
                  </a:moveTo>
                  <a:lnTo>
                    <a:pt x="165" y="258"/>
                  </a:lnTo>
                  <a:lnTo>
                    <a:pt x="160" y="239"/>
                  </a:lnTo>
                  <a:lnTo>
                    <a:pt x="155" y="221"/>
                  </a:lnTo>
                  <a:lnTo>
                    <a:pt x="148" y="203"/>
                  </a:lnTo>
                  <a:lnTo>
                    <a:pt x="135" y="167"/>
                  </a:lnTo>
                  <a:lnTo>
                    <a:pt x="118" y="130"/>
                  </a:lnTo>
                  <a:lnTo>
                    <a:pt x="100" y="95"/>
                  </a:lnTo>
                  <a:lnTo>
                    <a:pt x="82" y="61"/>
                  </a:lnTo>
                  <a:lnTo>
                    <a:pt x="61" y="29"/>
                  </a:lnTo>
                  <a:lnTo>
                    <a:pt x="41" y="0"/>
                  </a:lnTo>
                  <a:lnTo>
                    <a:pt x="0" y="30"/>
                  </a:lnTo>
                  <a:lnTo>
                    <a:pt x="20" y="58"/>
                  </a:lnTo>
                  <a:lnTo>
                    <a:pt x="38" y="88"/>
                  </a:lnTo>
                  <a:lnTo>
                    <a:pt x="56" y="119"/>
                  </a:lnTo>
                  <a:lnTo>
                    <a:pt x="73" y="152"/>
                  </a:lnTo>
                  <a:lnTo>
                    <a:pt x="88" y="186"/>
                  </a:lnTo>
                  <a:lnTo>
                    <a:pt x="101" y="219"/>
                  </a:lnTo>
                  <a:lnTo>
                    <a:pt x="106" y="237"/>
                  </a:lnTo>
                  <a:lnTo>
                    <a:pt x="111" y="253"/>
                  </a:lnTo>
                  <a:lnTo>
                    <a:pt x="115" y="268"/>
                  </a:lnTo>
                  <a:lnTo>
                    <a:pt x="120" y="285"/>
                  </a:lnTo>
                  <a:lnTo>
                    <a:pt x="168" y="274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1" name="Freeform 84"/>
            <p:cNvSpPr/>
            <p:nvPr/>
          </p:nvSpPr>
          <p:spPr>
            <a:xfrm>
              <a:off x="2301840" y="3494160"/>
              <a:ext cx="76320" cy="63360"/>
            </a:xfrm>
            <a:custGeom>
              <a:avLst/>
              <a:gdLst/>
              <a:ahLst/>
              <a:rect l="l" t="t" r="r" b="b"/>
              <a:pathLst>
                <a:path w="873" h="721">
                  <a:moveTo>
                    <a:pt x="0" y="193"/>
                  </a:moveTo>
                  <a:lnTo>
                    <a:pt x="735" y="0"/>
                  </a:lnTo>
                  <a:lnTo>
                    <a:pt x="873" y="528"/>
                  </a:lnTo>
                  <a:lnTo>
                    <a:pt x="139" y="72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2" name="Freeform 85"/>
            <p:cNvSpPr/>
            <p:nvPr/>
          </p:nvSpPr>
          <p:spPr>
            <a:xfrm>
              <a:off x="2301840" y="3494160"/>
              <a:ext cx="65160" cy="17280"/>
            </a:xfrm>
            <a:custGeom>
              <a:avLst/>
              <a:gdLst/>
              <a:ahLst/>
              <a:rect l="l" t="t" r="r" b="b"/>
              <a:pathLst>
                <a:path w="742" h="206">
                  <a:moveTo>
                    <a:pt x="742" y="6"/>
                  </a:moveTo>
                  <a:lnTo>
                    <a:pt x="735" y="2"/>
                  </a:lnTo>
                  <a:lnTo>
                    <a:pt x="0" y="195"/>
                  </a:lnTo>
                  <a:lnTo>
                    <a:pt x="3" y="206"/>
                  </a:lnTo>
                  <a:lnTo>
                    <a:pt x="738" y="13"/>
                  </a:lnTo>
                  <a:lnTo>
                    <a:pt x="742" y="6"/>
                  </a:lnTo>
                  <a:lnTo>
                    <a:pt x="741" y="0"/>
                  </a:lnTo>
                  <a:lnTo>
                    <a:pt x="735" y="2"/>
                  </a:lnTo>
                  <a:lnTo>
                    <a:pt x="742" y="6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Freeform 86"/>
            <p:cNvSpPr/>
            <p:nvPr/>
          </p:nvSpPr>
          <p:spPr>
            <a:xfrm>
              <a:off x="2365200" y="3494160"/>
              <a:ext cx="14400" cy="47520"/>
            </a:xfrm>
            <a:custGeom>
              <a:avLst/>
              <a:gdLst/>
              <a:ahLst/>
              <a:rect l="l" t="t" r="r" b="b"/>
              <a:pathLst>
                <a:path w="153" h="536">
                  <a:moveTo>
                    <a:pt x="147" y="536"/>
                  </a:moveTo>
                  <a:lnTo>
                    <a:pt x="151" y="528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38" y="531"/>
                  </a:lnTo>
                  <a:lnTo>
                    <a:pt x="147" y="536"/>
                  </a:lnTo>
                  <a:lnTo>
                    <a:pt x="153" y="534"/>
                  </a:lnTo>
                  <a:lnTo>
                    <a:pt x="151" y="528"/>
                  </a:lnTo>
                  <a:lnTo>
                    <a:pt x="147" y="536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4" name="Freeform 87"/>
            <p:cNvSpPr/>
            <p:nvPr/>
          </p:nvSpPr>
          <p:spPr>
            <a:xfrm>
              <a:off x="2313000" y="3540240"/>
              <a:ext cx="65160" cy="19080"/>
            </a:xfrm>
            <a:custGeom>
              <a:avLst/>
              <a:gdLst/>
              <a:ahLst/>
              <a:rect l="l" t="t" r="r" b="b"/>
              <a:pathLst>
                <a:path w="743" h="206">
                  <a:moveTo>
                    <a:pt x="0" y="200"/>
                  </a:moveTo>
                  <a:lnTo>
                    <a:pt x="8" y="204"/>
                  </a:lnTo>
                  <a:lnTo>
                    <a:pt x="743" y="12"/>
                  </a:lnTo>
                  <a:lnTo>
                    <a:pt x="739" y="0"/>
                  </a:lnTo>
                  <a:lnTo>
                    <a:pt x="5" y="193"/>
                  </a:lnTo>
                  <a:lnTo>
                    <a:pt x="0" y="200"/>
                  </a:lnTo>
                  <a:lnTo>
                    <a:pt x="2" y="206"/>
                  </a:lnTo>
                  <a:lnTo>
                    <a:pt x="8" y="204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5" name="Freeform 88"/>
            <p:cNvSpPr/>
            <p:nvPr/>
          </p:nvSpPr>
          <p:spPr>
            <a:xfrm>
              <a:off x="2300400" y="3511440"/>
              <a:ext cx="14040" cy="47880"/>
            </a:xfrm>
            <a:custGeom>
              <a:avLst/>
              <a:gdLst/>
              <a:ahLst/>
              <a:rect l="l" t="t" r="r" b="b"/>
              <a:pathLst>
                <a:path w="151" h="531">
                  <a:moveTo>
                    <a:pt x="0" y="3"/>
                  </a:moveTo>
                  <a:lnTo>
                    <a:pt x="139" y="531"/>
                  </a:lnTo>
                  <a:lnTo>
                    <a:pt x="151" y="528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6" name="Rectangle 89"/>
            <p:cNvSpPr/>
            <p:nvPr/>
          </p:nvSpPr>
          <p:spPr>
            <a:xfrm>
              <a:off x="1658880" y="3546360"/>
              <a:ext cx="349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Rectangle 90"/>
            <p:cNvSpPr/>
            <p:nvPr/>
          </p:nvSpPr>
          <p:spPr>
            <a:xfrm>
              <a:off x="1641600" y="3554280"/>
              <a:ext cx="66600" cy="42840"/>
            </a:xfrm>
            <a:prstGeom prst="rect">
              <a:avLst/>
            </a:pr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Freeform 91"/>
            <p:cNvSpPr/>
            <p:nvPr/>
          </p:nvSpPr>
          <p:spPr>
            <a:xfrm>
              <a:off x="1603440" y="3497400"/>
              <a:ext cx="68040" cy="75960"/>
            </a:xfrm>
            <a:custGeom>
              <a:avLst/>
              <a:gdLst/>
              <a:ahLst/>
              <a:rect l="l" t="t" r="r" b="b"/>
              <a:pathLst>
                <a:path w="778" h="861">
                  <a:moveTo>
                    <a:pt x="201" y="0"/>
                  </a:moveTo>
                  <a:lnTo>
                    <a:pt x="778" y="167"/>
                  </a:lnTo>
                  <a:lnTo>
                    <a:pt x="576" y="861"/>
                  </a:lnTo>
                  <a:lnTo>
                    <a:pt x="0" y="6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3b5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Rectangle 92"/>
            <p:cNvSpPr/>
            <p:nvPr/>
          </p:nvSpPr>
          <p:spPr>
            <a:xfrm>
              <a:off x="1989000" y="3147840"/>
              <a:ext cx="189000" cy="1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Rectangle 93"/>
            <p:cNvSpPr/>
            <p:nvPr/>
          </p:nvSpPr>
          <p:spPr>
            <a:xfrm>
              <a:off x="1805040" y="3363840"/>
              <a:ext cx="13500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Rectangle 94"/>
            <p:cNvSpPr/>
            <p:nvPr/>
          </p:nvSpPr>
          <p:spPr>
            <a:xfrm>
              <a:off x="2019240" y="2917800"/>
              <a:ext cx="125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Freeform 95"/>
            <p:cNvSpPr/>
            <p:nvPr/>
          </p:nvSpPr>
          <p:spPr>
            <a:xfrm>
              <a:off x="1687680" y="2813040"/>
              <a:ext cx="249120" cy="225360"/>
            </a:xfrm>
            <a:custGeom>
              <a:avLst/>
              <a:gdLst/>
              <a:ahLst/>
              <a:rect l="l" t="t" r="r" b="b"/>
              <a:pathLst>
                <a:path w="2825" h="2562">
                  <a:moveTo>
                    <a:pt x="2762" y="2491"/>
                  </a:moveTo>
                  <a:lnTo>
                    <a:pt x="2825" y="2411"/>
                  </a:lnTo>
                  <a:lnTo>
                    <a:pt x="2788" y="2378"/>
                  </a:lnTo>
                  <a:lnTo>
                    <a:pt x="2688" y="2288"/>
                  </a:lnTo>
                  <a:lnTo>
                    <a:pt x="2493" y="2114"/>
                  </a:lnTo>
                  <a:lnTo>
                    <a:pt x="2172" y="1826"/>
                  </a:lnTo>
                  <a:lnTo>
                    <a:pt x="1693" y="1396"/>
                  </a:lnTo>
                  <a:lnTo>
                    <a:pt x="1025" y="796"/>
                  </a:lnTo>
                  <a:lnTo>
                    <a:pt x="136" y="0"/>
                  </a:lnTo>
                  <a:lnTo>
                    <a:pt x="0" y="150"/>
                  </a:lnTo>
                  <a:lnTo>
                    <a:pt x="890" y="947"/>
                  </a:lnTo>
                  <a:lnTo>
                    <a:pt x="1558" y="1547"/>
                  </a:lnTo>
                  <a:lnTo>
                    <a:pt x="2037" y="1977"/>
                  </a:lnTo>
                  <a:lnTo>
                    <a:pt x="2358" y="2265"/>
                  </a:lnTo>
                  <a:lnTo>
                    <a:pt x="2553" y="2439"/>
                  </a:lnTo>
                  <a:lnTo>
                    <a:pt x="2653" y="2529"/>
                  </a:lnTo>
                  <a:lnTo>
                    <a:pt x="2690" y="2562"/>
                  </a:lnTo>
                  <a:lnTo>
                    <a:pt x="2762" y="24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Rectangle 96"/>
            <p:cNvSpPr/>
            <p:nvPr/>
          </p:nvSpPr>
          <p:spPr>
            <a:xfrm>
              <a:off x="1614600" y="3510000"/>
              <a:ext cx="772920" cy="68400"/>
            </a:xfrm>
            <a:prstGeom prst="rect">
              <a:avLst/>
            </a:prstGeom>
            <a:solidFill>
              <a:srgbClr val="375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Freeform 97"/>
            <p:cNvSpPr/>
            <p:nvPr/>
          </p:nvSpPr>
          <p:spPr>
            <a:xfrm>
              <a:off x="1614600" y="3492360"/>
              <a:ext cx="790560" cy="36720"/>
            </a:xfrm>
            <a:custGeom>
              <a:avLst/>
              <a:gdLst/>
              <a:ahLst/>
              <a:rect l="l" t="t" r="r" b="b"/>
              <a:pathLst>
                <a:path w="8964" h="406">
                  <a:moveTo>
                    <a:pt x="8964" y="203"/>
                  </a:moveTo>
                  <a:lnTo>
                    <a:pt x="8761" y="0"/>
                  </a:lnTo>
                  <a:lnTo>
                    <a:pt x="0" y="0"/>
                  </a:lnTo>
                  <a:lnTo>
                    <a:pt x="0" y="406"/>
                  </a:lnTo>
                  <a:lnTo>
                    <a:pt x="8761" y="406"/>
                  </a:lnTo>
                  <a:lnTo>
                    <a:pt x="8964" y="203"/>
                  </a:lnTo>
                  <a:lnTo>
                    <a:pt x="8964" y="0"/>
                  </a:lnTo>
                  <a:lnTo>
                    <a:pt x="8761" y="0"/>
                  </a:lnTo>
                  <a:lnTo>
                    <a:pt x="8964" y="203"/>
                  </a:lnTo>
                  <a:close/>
                </a:path>
              </a:pathLst>
            </a:custGeom>
            <a:solidFill>
              <a:srgbClr val="375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Freeform 98"/>
            <p:cNvSpPr/>
            <p:nvPr/>
          </p:nvSpPr>
          <p:spPr>
            <a:xfrm>
              <a:off x="1596960" y="3560760"/>
              <a:ext cx="741600" cy="36360"/>
            </a:xfrm>
            <a:custGeom>
              <a:avLst/>
              <a:gdLst/>
              <a:ahLst/>
              <a:rect l="l" t="t" r="r" b="b"/>
              <a:pathLst>
                <a:path w="8399" h="406">
                  <a:moveTo>
                    <a:pt x="0" y="203"/>
                  </a:moveTo>
                  <a:lnTo>
                    <a:pt x="189" y="406"/>
                  </a:lnTo>
                  <a:lnTo>
                    <a:pt x="8399" y="406"/>
                  </a:lnTo>
                  <a:lnTo>
                    <a:pt x="8399" y="0"/>
                  </a:lnTo>
                  <a:lnTo>
                    <a:pt x="189" y="0"/>
                  </a:lnTo>
                  <a:lnTo>
                    <a:pt x="0" y="203"/>
                  </a:lnTo>
                  <a:lnTo>
                    <a:pt x="0" y="406"/>
                  </a:lnTo>
                  <a:lnTo>
                    <a:pt x="189" y="406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375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Freeform 99"/>
            <p:cNvSpPr/>
            <p:nvPr/>
          </p:nvSpPr>
          <p:spPr>
            <a:xfrm>
              <a:off x="1596960" y="3492360"/>
              <a:ext cx="34920" cy="86040"/>
            </a:xfrm>
            <a:custGeom>
              <a:avLst/>
              <a:gdLst/>
              <a:ahLst/>
              <a:rect l="l" t="t" r="r" b="b"/>
              <a:pathLst>
                <a:path w="406" h="980">
                  <a:moveTo>
                    <a:pt x="203" y="0"/>
                  </a:moveTo>
                  <a:lnTo>
                    <a:pt x="0" y="203"/>
                  </a:lnTo>
                  <a:lnTo>
                    <a:pt x="0" y="980"/>
                  </a:lnTo>
                  <a:lnTo>
                    <a:pt x="406" y="980"/>
                  </a:lnTo>
                  <a:lnTo>
                    <a:pt x="406" y="20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375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4106880" y="3954600"/>
            <a:ext cx="171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Text Box 29"/>
          <p:cNvSpPr/>
          <p:nvPr/>
        </p:nvSpPr>
        <p:spPr>
          <a:xfrm>
            <a:off x="611280" y="141300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9" name="Group 45"/>
          <p:cNvGrpSpPr/>
          <p:nvPr/>
        </p:nvGrpSpPr>
        <p:grpSpPr>
          <a:xfrm>
            <a:off x="684360" y="1773360"/>
            <a:ext cx="6908760" cy="4154400"/>
            <a:chOff x="684360" y="1773360"/>
            <a:chExt cx="6908760" cy="4154400"/>
          </a:xfrm>
        </p:grpSpPr>
        <p:sp>
          <p:nvSpPr>
            <p:cNvPr id="550" name="Rectangle 3"/>
            <p:cNvSpPr/>
            <p:nvPr/>
          </p:nvSpPr>
          <p:spPr>
            <a:xfrm>
              <a:off x="5818320" y="5267160"/>
              <a:ext cx="17748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1" name="Rectangle 4"/>
            <p:cNvSpPr/>
            <p:nvPr/>
          </p:nvSpPr>
          <p:spPr>
            <a:xfrm>
              <a:off x="4106880" y="5267160"/>
              <a:ext cx="17114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403-2 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우측비상구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2411280" y="5267160"/>
              <a:ext cx="16956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403-1 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좌측비상구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3" name="Rectangle 6"/>
            <p:cNvSpPr/>
            <p:nvPr/>
          </p:nvSpPr>
          <p:spPr>
            <a:xfrm>
              <a:off x="684360" y="5267160"/>
              <a:ext cx="1726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403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비상구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4" name="Rectangle 7"/>
            <p:cNvSpPr/>
            <p:nvPr/>
          </p:nvSpPr>
          <p:spPr>
            <a:xfrm>
              <a:off x="5818320" y="3954600"/>
              <a:ext cx="17748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>
              <a:off x="2411280" y="3954600"/>
              <a:ext cx="16956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684360" y="3954600"/>
              <a:ext cx="172692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5818320" y="3294000"/>
              <a:ext cx="17748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402-2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세안장치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Rectangle 12"/>
            <p:cNvSpPr/>
            <p:nvPr/>
          </p:nvSpPr>
          <p:spPr>
            <a:xfrm>
              <a:off x="4106880" y="3294000"/>
              <a:ext cx="17114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402-1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들것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9" name="Rectangle 13"/>
            <p:cNvSpPr/>
            <p:nvPr/>
          </p:nvSpPr>
          <p:spPr>
            <a:xfrm>
              <a:off x="2411280" y="3294000"/>
              <a:ext cx="16956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402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응급구호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   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표지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0" name="Rectangle 14"/>
            <p:cNvSpPr/>
            <p:nvPr/>
          </p:nvSpPr>
          <p:spPr>
            <a:xfrm>
              <a:off x="684360" y="3294000"/>
              <a:ext cx="1726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굴림"/>
                </a:rPr>
                <a:t>401 </a:t>
              </a:r>
              <a:r>
                <a:rPr b="1" lang="ko-KR" sz="1700" spc="-1" strike="noStrike">
                  <a:solidFill>
                    <a:srgbClr val="000000"/>
                  </a:solidFill>
                  <a:latin typeface="굴림"/>
                </a:rPr>
                <a:t>녹십자표지</a:t>
              </a:r>
              <a:endParaRPr b="0" lang="en-US" sz="1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1" name="Rectangle 15"/>
            <p:cNvSpPr/>
            <p:nvPr/>
          </p:nvSpPr>
          <p:spPr>
            <a:xfrm>
              <a:off x="5818320" y="1773360"/>
              <a:ext cx="177480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4106880" y="1773360"/>
              <a:ext cx="171144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Rectangle 17"/>
            <p:cNvSpPr/>
            <p:nvPr/>
          </p:nvSpPr>
          <p:spPr>
            <a:xfrm>
              <a:off x="2411280" y="1773360"/>
              <a:ext cx="169560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4" name="Rectangle 18"/>
            <p:cNvSpPr/>
            <p:nvPr/>
          </p:nvSpPr>
          <p:spPr>
            <a:xfrm>
              <a:off x="684360" y="1773360"/>
              <a:ext cx="172692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>
              <a:off x="684360" y="1773360"/>
              <a:ext cx="6908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684360" y="3294000"/>
              <a:ext cx="690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>
              <a:off x="684360" y="3954600"/>
              <a:ext cx="690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>
              <a:off x="684360" y="5267160"/>
              <a:ext cx="690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>
              <a:off x="684360" y="5927760"/>
              <a:ext cx="6908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>
              <a:off x="684360" y="177336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>
              <a:off x="2411280" y="177336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>
              <a:off x="4106880" y="177336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>
              <a:off x="5818320" y="177336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>
              <a:off x="7593120" y="177336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75" name="Picture 30" descr="KISA S401(녹십자_안전제일)"/>
            <p:cNvPicPr/>
            <p:nvPr/>
          </p:nvPicPr>
          <p:blipFill>
            <a:blip r:embed="rId1"/>
            <a:stretch/>
          </p:blipFill>
          <p:spPr>
            <a:xfrm>
              <a:off x="826920" y="184464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31" descr="KISA S402(응급구호)"/>
            <p:cNvPicPr/>
            <p:nvPr/>
          </p:nvPicPr>
          <p:blipFill>
            <a:blip r:embed="rId2"/>
            <a:stretch/>
          </p:blipFill>
          <p:spPr>
            <a:xfrm>
              <a:off x="2556000" y="184464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2" descr="KISA S402-1(들것)"/>
            <p:cNvPicPr/>
            <p:nvPr/>
          </p:nvPicPr>
          <p:blipFill>
            <a:blip r:embed="rId3"/>
            <a:stretch/>
          </p:blipFill>
          <p:spPr>
            <a:xfrm>
              <a:off x="4284720" y="184464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3" descr="KISA S402-2(눈씻는장치)"/>
            <p:cNvPicPr/>
            <p:nvPr/>
          </p:nvPicPr>
          <p:blipFill>
            <a:blip r:embed="rId4"/>
            <a:stretch/>
          </p:blipFill>
          <p:spPr>
            <a:xfrm>
              <a:off x="5940360" y="1773360"/>
              <a:ext cx="14400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34" descr="KISA S403(비상구)"/>
            <p:cNvPicPr/>
            <p:nvPr/>
          </p:nvPicPr>
          <p:blipFill>
            <a:blip r:embed="rId5"/>
            <a:stretch/>
          </p:blipFill>
          <p:spPr>
            <a:xfrm>
              <a:off x="826920" y="4005360"/>
              <a:ext cx="14004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35" descr="KISA S403-1(좌측비상구)"/>
            <p:cNvPicPr/>
            <p:nvPr/>
          </p:nvPicPr>
          <p:blipFill>
            <a:blip r:embed="rId6"/>
            <a:stretch/>
          </p:blipFill>
          <p:spPr>
            <a:xfrm>
              <a:off x="2484360" y="4292640"/>
              <a:ext cx="144000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1" name="Picture 36" descr="KISA S403-2(우측비상구)"/>
          <p:cNvPicPr/>
          <p:nvPr/>
        </p:nvPicPr>
        <p:blipFill>
          <a:blip r:embed="rId7"/>
          <a:stretch/>
        </p:blipFill>
        <p:spPr>
          <a:xfrm>
            <a:off x="4284720" y="4292640"/>
            <a:ext cx="1439640" cy="72072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37"/>
          <p:cNvSpPr/>
          <p:nvPr/>
        </p:nvSpPr>
        <p:spPr>
          <a:xfrm>
            <a:off x="395280" y="836640"/>
            <a:ext cx="820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SzPct val="10283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안내표지 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(7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종</a:t>
            </a: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Text Box 38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4"/>
          <p:cNvGrpSpPr/>
          <p:nvPr/>
        </p:nvGrpSpPr>
        <p:grpSpPr>
          <a:xfrm>
            <a:off x="684360" y="981000"/>
            <a:ext cx="3671280" cy="718920"/>
            <a:chOff x="684360" y="981000"/>
            <a:chExt cx="3671280" cy="718920"/>
          </a:xfrm>
        </p:grpSpPr>
        <p:sp>
          <p:nvSpPr>
            <p:cNvPr id="585" name="Rectangle 5"/>
            <p:cNvSpPr/>
            <p:nvPr/>
          </p:nvSpPr>
          <p:spPr>
            <a:xfrm>
              <a:off x="684360" y="981000"/>
              <a:ext cx="3671280" cy="62784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물질안전보건자료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(MSD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86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819720" y="1030680"/>
              <a:ext cx="970560" cy="66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Rectangle 7"/>
          <p:cNvSpPr/>
          <p:nvPr/>
        </p:nvSpPr>
        <p:spPr>
          <a:xfrm>
            <a:off x="539640" y="2471760"/>
            <a:ext cx="55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질안전보건자료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MSDS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화학물질의 유해위험성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응급처치요령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취급방법 등을 설명해 주는 자료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Material Safety Data Sheets : MSDS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서 우리가 일상 생활에서 냉장고와 같은 가전제품을 구입하면 그 취급방법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시 주의사항 등에 대한 설명서가 있고 또한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의약품을 구입하면 그 성분 및 함유량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효능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부작용 등을 알려주는 설명서가 있는데 이와 같이 화학제품의 안전사용을 위한 설명서가 바로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MSD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입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8" name="Picture 9" descr="UNI00000be4bfb1"/>
          <p:cNvPicPr/>
          <p:nvPr/>
        </p:nvPicPr>
        <p:blipFill>
          <a:blip r:embed="rId2"/>
          <a:stretch/>
        </p:blipFill>
        <p:spPr>
          <a:xfrm>
            <a:off x="6443640" y="220500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684360" y="2335680"/>
            <a:ext cx="46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산업의 급속한 발달로 화학물질의 사용량은 급격히 증가하고 있으나 대부분의 화학물질이 유해위험성에 대한 설명자료 없이 유통되어 근로자들은 당해 물질의 유해위험성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모른 채 작업하다가 직업병에 걸리거나 사고를 당하는 사례가 자주 발생하였습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따라서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유해화학물질로부터 근로자의 건강을 보호하기 위해서 사업주가 유해위험성 등에 대한 설명서를 작성하여 보기 쉬운 장소에 비치하고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그 물질을 담은 용기에는 경고표지를 부착하도록 함은 물론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이를 취급하는 근로자에게 유해위험성 등을 정확하게 알도록 교육시키는 제도가 필요하게 된 것입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0" name="Group 5"/>
          <p:cNvGrpSpPr/>
          <p:nvPr/>
        </p:nvGrpSpPr>
        <p:grpSpPr>
          <a:xfrm>
            <a:off x="684360" y="981000"/>
            <a:ext cx="3382560" cy="718920"/>
            <a:chOff x="684360" y="981000"/>
            <a:chExt cx="3382560" cy="718920"/>
          </a:xfrm>
        </p:grpSpPr>
        <p:sp>
          <p:nvSpPr>
            <p:cNvPr id="591" name="Rectangle 6"/>
            <p:cNvSpPr/>
            <p:nvPr/>
          </p:nvSpPr>
          <p:spPr>
            <a:xfrm>
              <a:off x="684360" y="981000"/>
              <a:ext cx="3382560" cy="62784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MSDS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제도의 필요성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92" name="Picture 7" descr="11644_30053-60578"/>
            <p:cNvPicPr/>
            <p:nvPr/>
          </p:nvPicPr>
          <p:blipFill>
            <a:blip r:embed="rId1"/>
            <a:stretch/>
          </p:blipFill>
          <p:spPr>
            <a:xfrm>
              <a:off x="808920" y="1030680"/>
              <a:ext cx="894240" cy="66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3" name="Picture 9" descr="UNI00000be4bfb7"/>
          <p:cNvPicPr/>
          <p:nvPr/>
        </p:nvPicPr>
        <p:blipFill>
          <a:blip r:embed="rId2"/>
          <a:stretch/>
        </p:blipFill>
        <p:spPr>
          <a:xfrm>
            <a:off x="5651640" y="1844640"/>
            <a:ext cx="2665440" cy="2425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1" descr="UNI00000be4bfbd"/>
          <p:cNvPicPr/>
          <p:nvPr/>
        </p:nvPicPr>
        <p:blipFill>
          <a:blip r:embed="rId3"/>
          <a:stretch/>
        </p:blipFill>
        <p:spPr>
          <a:xfrm>
            <a:off x="5796000" y="4508640"/>
            <a:ext cx="2438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4"/>
          <p:cNvGrpSpPr/>
          <p:nvPr/>
        </p:nvGrpSpPr>
        <p:grpSpPr>
          <a:xfrm>
            <a:off x="684360" y="981000"/>
            <a:ext cx="2807640" cy="718920"/>
            <a:chOff x="684360" y="981000"/>
            <a:chExt cx="2807640" cy="718920"/>
          </a:xfrm>
        </p:grpSpPr>
        <p:sp>
          <p:nvSpPr>
            <p:cNvPr id="596" name="Rectangle 5"/>
            <p:cNvSpPr/>
            <p:nvPr/>
          </p:nvSpPr>
          <p:spPr>
            <a:xfrm>
              <a:off x="684360" y="981000"/>
              <a:ext cx="2807640" cy="62784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전기 재해 예방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97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787680" y="1030680"/>
              <a:ext cx="742320" cy="66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Rectangle 7"/>
          <p:cNvSpPr/>
          <p:nvPr/>
        </p:nvSpPr>
        <p:spPr>
          <a:xfrm>
            <a:off x="611280" y="213372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누전차단기는 월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회 점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누전차단기는 누전이 발생되었을 때 전기 회로를 자동으로 끊어주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장치로 전기재해예방을 위한 가장 기본적인 장치입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20V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압 공급지역에서는 반드시 누전차단기를 설치하고 한달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번씩 시험버튼을 눌러 정상적으로 작동되는지를 확인합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684360" y="4292280"/>
            <a:ext cx="71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접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기나 습기가 많은 장소에 사용하는 전기기계기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세탁기 등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외 함에는 누전 시 감전을 방지해 주는 접지장치를 시설해야 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"/>
          <p:cNvGrpSpPr/>
          <p:nvPr/>
        </p:nvGrpSpPr>
        <p:grpSpPr>
          <a:xfrm>
            <a:off x="684360" y="981000"/>
            <a:ext cx="2807640" cy="718920"/>
            <a:chOff x="684360" y="981000"/>
            <a:chExt cx="2807640" cy="718920"/>
          </a:xfrm>
        </p:grpSpPr>
        <p:sp>
          <p:nvSpPr>
            <p:cNvPr id="601" name="Rectangle 5"/>
            <p:cNvSpPr/>
            <p:nvPr/>
          </p:nvSpPr>
          <p:spPr>
            <a:xfrm>
              <a:off x="684360" y="981000"/>
              <a:ext cx="2807640" cy="62784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전기 재해 예방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02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787680" y="1030680"/>
              <a:ext cx="742320" cy="66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Rectangle 7"/>
          <p:cNvSpPr/>
          <p:nvPr/>
        </p:nvSpPr>
        <p:spPr>
          <a:xfrm>
            <a:off x="684360" y="2276280"/>
            <a:ext cx="66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◎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어발식 전기기기의 사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개의 콘센트에 한꺼번에 많이 발생되어 전기화재의 원인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특히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열기구에는 비닐 코드선을 사용할 수 없습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4" name="Picture 9" descr="EMB00000be4bf97"/>
          <p:cNvPicPr/>
          <p:nvPr/>
        </p:nvPicPr>
        <p:blipFill>
          <a:blip r:embed="rId2"/>
          <a:stretch/>
        </p:blipFill>
        <p:spPr>
          <a:xfrm>
            <a:off x="1258920" y="3429000"/>
            <a:ext cx="4825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4"/>
          <p:cNvGrpSpPr/>
          <p:nvPr/>
        </p:nvGrpSpPr>
        <p:grpSpPr>
          <a:xfrm>
            <a:off x="684360" y="981000"/>
            <a:ext cx="2807640" cy="718920"/>
            <a:chOff x="684360" y="981000"/>
            <a:chExt cx="2807640" cy="718920"/>
          </a:xfrm>
        </p:grpSpPr>
        <p:sp>
          <p:nvSpPr>
            <p:cNvPr id="606" name="Rectangle 5"/>
            <p:cNvSpPr/>
            <p:nvPr/>
          </p:nvSpPr>
          <p:spPr>
            <a:xfrm>
              <a:off x="684360" y="981000"/>
              <a:ext cx="2807640" cy="62784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소화기 사용법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07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787680" y="1030680"/>
              <a:ext cx="742320" cy="66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Rectangle 7"/>
          <p:cNvSpPr/>
          <p:nvPr/>
        </p:nvSpPr>
        <p:spPr>
          <a:xfrm>
            <a:off x="611280" y="240156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당황하지 말고 침착하게 화원이 있는 곳으로 소화기를 이동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⑵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소화기의 안전핀을 뽑는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바람을 등지고 화점을 향하여 호스를 뽑아 들고 손잡이를 힘껏 움켜쥔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불길주위에서부터 빗자루로 쓸 듯이 골고루 방사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9" name="Group 16"/>
          <p:cNvGrpSpPr/>
          <p:nvPr/>
        </p:nvGrpSpPr>
        <p:grpSpPr>
          <a:xfrm>
            <a:off x="755640" y="3933720"/>
            <a:ext cx="7377120" cy="1905120"/>
            <a:chOff x="755640" y="3933720"/>
            <a:chExt cx="7377120" cy="1905120"/>
          </a:xfrm>
        </p:grpSpPr>
        <p:pic>
          <p:nvPicPr>
            <p:cNvPr id="610" name="Picture 9" descr="EMB00000be4bf9b"/>
            <p:cNvPicPr/>
            <p:nvPr/>
          </p:nvPicPr>
          <p:blipFill>
            <a:blip r:embed="rId2"/>
            <a:stretch/>
          </p:blipFill>
          <p:spPr>
            <a:xfrm>
              <a:off x="755640" y="4005360"/>
              <a:ext cx="1257480" cy="17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11" descr="EMB00000be4bf9c"/>
            <p:cNvPicPr/>
            <p:nvPr/>
          </p:nvPicPr>
          <p:blipFill>
            <a:blip r:embed="rId3"/>
            <a:stretch/>
          </p:blipFill>
          <p:spPr>
            <a:xfrm>
              <a:off x="2700360" y="3933720"/>
              <a:ext cx="125712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" descr="EMB00000be4bf9d"/>
            <p:cNvPicPr/>
            <p:nvPr/>
          </p:nvPicPr>
          <p:blipFill>
            <a:blip r:embed="rId4"/>
            <a:stretch/>
          </p:blipFill>
          <p:spPr>
            <a:xfrm>
              <a:off x="4572000" y="3933720"/>
              <a:ext cx="14000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15" descr="EMB00000be4bf9e"/>
            <p:cNvPicPr/>
            <p:nvPr/>
          </p:nvPicPr>
          <p:blipFill>
            <a:blip r:embed="rId5"/>
            <a:stretch/>
          </p:blipFill>
          <p:spPr>
            <a:xfrm>
              <a:off x="6732720" y="4005360"/>
              <a:ext cx="14000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4"/>
          <p:cNvGrpSpPr/>
          <p:nvPr/>
        </p:nvGrpSpPr>
        <p:grpSpPr>
          <a:xfrm>
            <a:off x="324000" y="907920"/>
            <a:ext cx="2807640" cy="718920"/>
            <a:chOff x="324000" y="907920"/>
            <a:chExt cx="2807640" cy="718920"/>
          </a:xfrm>
        </p:grpSpPr>
        <p:sp>
          <p:nvSpPr>
            <p:cNvPr id="615" name="Rectangle 5"/>
            <p:cNvSpPr/>
            <p:nvPr/>
          </p:nvSpPr>
          <p:spPr>
            <a:xfrm>
              <a:off x="324000" y="907920"/>
              <a:ext cx="2807640" cy="62784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소화전 사용법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16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427320" y="957600"/>
              <a:ext cx="742320" cy="66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Rectangle 7"/>
          <p:cNvSpPr/>
          <p:nvPr/>
        </p:nvSpPr>
        <p:spPr>
          <a:xfrm>
            <a:off x="250920" y="1844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옥내소화전 함의 문을 열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⑵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결합된 호스와 관창을 화재지점 가까이 끌고 가서 늘어뜨린 다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소화전함에 설치된 밸브를 시계 반대 방향으로 틀면 물이 나온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동스위치로 작동하는 경우에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ON[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스위치를 누른 후 밸브를 연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934920" y="3212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</a:rPr>
              <a:t>※ </a:t>
            </a:r>
            <a:r>
              <a:rPr b="0" lang="ko-KR" sz="1800" spc="-1" strike="noStrike">
                <a:solidFill>
                  <a:srgbClr val="0000ff"/>
                </a:solidFill>
                <a:latin typeface="굴림"/>
              </a:rPr>
              <a:t>화재시 </a:t>
            </a:r>
            <a:r>
              <a:rPr b="0" lang="en-US" sz="1800" spc="-1" strike="noStrike">
                <a:solidFill>
                  <a:srgbClr val="0000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0000ff"/>
                </a:solidFill>
                <a:latin typeface="굴림"/>
              </a:rPr>
              <a:t>인이 </a:t>
            </a:r>
            <a:r>
              <a:rPr b="0" lang="en-US" sz="1800" spc="-1" strike="noStrike">
                <a:solidFill>
                  <a:srgbClr val="0000ff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00ff"/>
                </a:solidFill>
                <a:latin typeface="굴림"/>
              </a:rPr>
              <a:t>개조가 되어 조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395280" y="3860640"/>
            <a:ext cx="8209080" cy="1944720"/>
            <a:chOff x="395280" y="3860640"/>
            <a:chExt cx="8209080" cy="1944720"/>
          </a:xfrm>
        </p:grpSpPr>
        <p:pic>
          <p:nvPicPr>
            <p:cNvPr id="620" name="Picture 10" descr="UNI00000be4bfc3"/>
            <p:cNvPicPr/>
            <p:nvPr/>
          </p:nvPicPr>
          <p:blipFill>
            <a:blip r:embed="rId2"/>
            <a:stretch/>
          </p:blipFill>
          <p:spPr>
            <a:xfrm>
              <a:off x="395280" y="3860640"/>
              <a:ext cx="186228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12" descr="UNI00000be4bfc9"/>
            <p:cNvPicPr/>
            <p:nvPr/>
          </p:nvPicPr>
          <p:blipFill>
            <a:blip r:embed="rId3"/>
            <a:stretch/>
          </p:blipFill>
          <p:spPr>
            <a:xfrm>
              <a:off x="2411280" y="3931920"/>
              <a:ext cx="2016360" cy="18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" descr="UNI00000be4bfcf"/>
            <p:cNvPicPr/>
            <p:nvPr/>
          </p:nvPicPr>
          <p:blipFill>
            <a:blip r:embed="rId4"/>
            <a:stretch/>
          </p:blipFill>
          <p:spPr>
            <a:xfrm>
              <a:off x="4500720" y="3931920"/>
              <a:ext cx="2016000" cy="18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6" descr="UNI00000be4bfd5"/>
            <p:cNvPicPr/>
            <p:nvPr/>
          </p:nvPicPr>
          <p:blipFill>
            <a:blip r:embed="rId5"/>
            <a:stretch/>
          </p:blipFill>
          <p:spPr>
            <a:xfrm>
              <a:off x="6732720" y="3931920"/>
              <a:ext cx="1871640" cy="18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3355200" y="83664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입사원의 마음가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187280" y="1557360"/>
            <a:ext cx="69138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지도자나 선배의 가르침에 따르고 표준작업안전수칙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준수하도록 노력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조속한 시일내에 공장내의 사정을 파악하도록 노력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3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맡겨진 기계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구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공구의 성능을 빨리 이해하도록 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4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복장은 단정히 하고 보호구를 정확하게 착용하도록 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5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작은 일이라도 의문이 나는 문제는 서슴지 않고 문의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6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타인의 기계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구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차량 등에는 절대 손을 대지 않는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7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다소 직장일에 익숙해지면 마음가짐이 해이해진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그때가 가장 위험하니 주의하여야 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6227640" y="189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채용자 안전수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"/>
          <p:cNvGrpSpPr/>
          <p:nvPr/>
        </p:nvGrpSpPr>
        <p:grpSpPr>
          <a:xfrm>
            <a:off x="611280" y="765000"/>
            <a:ext cx="2449440" cy="576360"/>
            <a:chOff x="611280" y="765000"/>
            <a:chExt cx="2449440" cy="576360"/>
          </a:xfrm>
        </p:grpSpPr>
        <p:sp>
          <p:nvSpPr>
            <p:cNvPr id="159" name="Rectangle 5"/>
            <p:cNvSpPr/>
            <p:nvPr/>
          </p:nvSpPr>
          <p:spPr>
            <a:xfrm>
              <a:off x="611280" y="765000"/>
              <a:ext cx="244944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용어의 정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0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701640" y="804960"/>
              <a:ext cx="64764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근 로 자 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직업의 종류를 불문하고 사업 또는 사업장에서 임금을 목적으로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근로를 제공하는 자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234936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산업재해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근로자가 업무와 관계되는 건설물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설비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원재료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증기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분진 등에 의하거나 작업 기타 업무에 기인하여 사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또는 부상하거나 질병에 이완되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68360" y="3789360"/>
            <a:ext cx="784872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중대재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사망자가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 이상 발생한 재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월 이상의 요양을 요하는 부상자가 동시에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 이상 발생한 재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부상자 또는 직업성 질병자가 동시에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 이상 발생한 재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작업환경측정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작업환경의 실태를 파악하기 위하여 해당 근로자 또는 작업장에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대하여 사업주가 측정계획을 수립하여 시료의 채취 및 그 분석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․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평가를 하는 것을 말합니다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611280" y="765000"/>
            <a:ext cx="2449440" cy="576360"/>
            <a:chOff x="611280" y="765000"/>
            <a:chExt cx="2449440" cy="576360"/>
          </a:xfrm>
        </p:grpSpPr>
        <p:sp>
          <p:nvSpPr>
            <p:cNvPr id="166" name="Rectangle 5"/>
            <p:cNvSpPr/>
            <p:nvPr/>
          </p:nvSpPr>
          <p:spPr>
            <a:xfrm>
              <a:off x="611280" y="765000"/>
              <a:ext cx="244944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용어의 정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7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701640" y="804960"/>
              <a:ext cx="64764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7"/>
          <p:cNvSpPr/>
          <p:nvPr/>
        </p:nvSpPr>
        <p:spPr>
          <a:xfrm>
            <a:off x="468360" y="306864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안전보건표지 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근로자의 안전 및 보건을 확보하기 위하여 위험장소 또는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 위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물질에 대한 경고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비상시에 대처하기 위한 사항 등을 그림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기호 및 글자 등으로 표시하여 근로자의 판단이나 행동의 착오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로 인하여 산업재해를 일으킬 우려가 있는 작업장의 특정장소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시설 또는 물체에 설치 또는 부착하는 표지를 말합니다</a:t>
            </a: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4"/>
          <p:cNvGrpSpPr/>
          <p:nvPr/>
        </p:nvGrpSpPr>
        <p:grpSpPr>
          <a:xfrm>
            <a:off x="395280" y="765000"/>
            <a:ext cx="2682360" cy="576360"/>
            <a:chOff x="395280" y="765000"/>
            <a:chExt cx="2682360" cy="576360"/>
          </a:xfrm>
        </p:grpSpPr>
        <p:sp>
          <p:nvSpPr>
            <p:cNvPr id="170" name="Rectangle 5"/>
            <p:cNvSpPr/>
            <p:nvPr/>
          </p:nvSpPr>
          <p:spPr>
            <a:xfrm>
              <a:off x="395280" y="765000"/>
              <a:ext cx="268236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사업주의 의무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1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493920" y="804960"/>
              <a:ext cx="70920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7"/>
          <p:cNvSpPr/>
          <p:nvPr/>
        </p:nvSpPr>
        <p:spPr>
          <a:xfrm>
            <a:off x="324000" y="220500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산업재해예방을 위한 기준 준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안전보건에 관한 정보를 근로자에게 제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근로조건의 개선을 통하여 쾌적한 작업환경 조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근로자의 생명보존과 안전보건을 유지 증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국가에서 시행하는 산업재해예방 시책에 적극 동참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Picture 10" descr="j0411480"/>
          <p:cNvPicPr/>
          <p:nvPr/>
        </p:nvPicPr>
        <p:blipFill>
          <a:blip r:embed="rId2"/>
          <a:stretch/>
        </p:blipFill>
        <p:spPr>
          <a:xfrm>
            <a:off x="6948360" y="1773360"/>
            <a:ext cx="18734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468360" y="765000"/>
            <a:ext cx="2682360" cy="576360"/>
            <a:chOff x="468360" y="765000"/>
            <a:chExt cx="2682360" cy="576360"/>
          </a:xfrm>
        </p:grpSpPr>
        <p:sp>
          <p:nvSpPr>
            <p:cNvPr id="175" name="Rectangle 5"/>
            <p:cNvSpPr/>
            <p:nvPr/>
          </p:nvSpPr>
          <p:spPr>
            <a:xfrm>
              <a:off x="468360" y="765000"/>
              <a:ext cx="268236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근로자의 의무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6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567000" y="804960"/>
              <a:ext cx="70920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7"/>
          <p:cNvSpPr/>
          <p:nvPr/>
        </p:nvSpPr>
        <p:spPr>
          <a:xfrm>
            <a:off x="539640" y="213372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사업주가 행한 안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체"/>
              </a:rPr>
              <a:t>·</a:t>
            </a:r>
            <a:r>
              <a:rPr b="1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보건상의 조치 준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사업주가 실시하는 건강진단에 반드시 참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안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체"/>
              </a:rPr>
              <a:t>·</a:t>
            </a:r>
            <a:r>
              <a:rPr b="1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보건관계자의 지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체"/>
              </a:rPr>
              <a:t>·</a:t>
            </a:r>
            <a:r>
              <a:rPr b="1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조언에 따른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개인보호구 착용</a:t>
            </a:r>
            <a:r>
              <a:rPr b="0" lang="ko-KR" sz="2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Picture 10" descr="j0424612"/>
          <p:cNvPicPr/>
          <p:nvPr/>
        </p:nvPicPr>
        <p:blipFill>
          <a:blip r:embed="rId2"/>
          <a:stretch/>
        </p:blipFill>
        <p:spPr>
          <a:xfrm>
            <a:off x="6443640" y="3933720"/>
            <a:ext cx="1467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539640" y="836640"/>
            <a:ext cx="2106720" cy="576360"/>
            <a:chOff x="539640" y="836640"/>
            <a:chExt cx="2106720" cy="576360"/>
          </a:xfrm>
        </p:grpSpPr>
        <p:sp>
          <p:nvSpPr>
            <p:cNvPr id="180" name="Rectangle 5"/>
            <p:cNvSpPr/>
            <p:nvPr/>
          </p:nvSpPr>
          <p:spPr>
            <a:xfrm>
              <a:off x="539640" y="836640"/>
              <a:ext cx="210672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벌   칙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1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617040" y="876600"/>
              <a:ext cx="55692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10"/>
          <p:cNvSpPr/>
          <p:nvPr/>
        </p:nvSpPr>
        <p:spPr>
          <a:xfrm>
            <a:off x="684360" y="1844640"/>
            <a:ext cx="784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굴림체"/>
                <a:ea typeface="굴림체"/>
              </a:rPr>
              <a:t>산업안전보건법 위반시에는 사업주 또는 근로자에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굴림체"/>
                <a:ea typeface="굴림체"/>
              </a:rPr>
              <a:t>까지 처벌할 수 있는 양벌 규정으로 되어있으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755640" y="3213000"/>
            <a:ext cx="784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최고 </a:t>
            </a:r>
            <a:r>
              <a:rPr b="1" lang="en-US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: 5</a:t>
            </a:r>
            <a:r>
              <a:rPr b="1" lang="ko-KR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년 이하의 징역 또는 </a:t>
            </a:r>
            <a:r>
              <a:rPr b="1" lang="en-US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5</a:t>
            </a:r>
            <a:r>
              <a:rPr b="1" lang="ko-KR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천만원 이하의 벌금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최저 </a:t>
            </a:r>
            <a:r>
              <a:rPr b="1" lang="en-US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: 300</a:t>
            </a:r>
            <a:r>
              <a:rPr b="1" lang="ko-KR" sz="2500" spc="-1" strike="noStrike">
                <a:solidFill>
                  <a:srgbClr val="ff0000"/>
                </a:solidFill>
                <a:latin typeface="굴림체"/>
                <a:ea typeface="굴림체"/>
              </a:rPr>
              <a:t>만원 이하의 벌금 또는 과태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4"/>
          <p:cNvGrpSpPr/>
          <p:nvPr/>
        </p:nvGrpSpPr>
        <p:grpSpPr>
          <a:xfrm>
            <a:off x="684360" y="981000"/>
            <a:ext cx="3526920" cy="576360"/>
            <a:chOff x="684360" y="981000"/>
            <a:chExt cx="3526920" cy="576360"/>
          </a:xfrm>
        </p:grpSpPr>
        <p:sp>
          <p:nvSpPr>
            <p:cNvPr id="185" name="Rectangle 5"/>
            <p:cNvSpPr/>
            <p:nvPr/>
          </p:nvSpPr>
          <p:spPr>
            <a:xfrm>
              <a:off x="684360" y="981000"/>
              <a:ext cx="3526920" cy="50328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eecb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4104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  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안전관리의 중요성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Picture 6" descr="11644_30053-60578"/>
            <p:cNvPicPr/>
            <p:nvPr/>
          </p:nvPicPr>
          <p:blipFill>
            <a:blip r:embed="rId1"/>
            <a:stretch/>
          </p:blipFill>
          <p:spPr>
            <a:xfrm>
              <a:off x="814320" y="1020960"/>
              <a:ext cx="93240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 Box 7"/>
          <p:cNvSpPr/>
          <p:nvPr/>
        </p:nvSpPr>
        <p:spPr>
          <a:xfrm>
            <a:off x="684360" y="206064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근로자의 생명과 신체의 보호라는 인도적 입장에서 뿐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니라 생산성의 향상이라는 기업경영의 입장에서도 안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관리가 매우 중요합니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684360" y="3716280"/>
            <a:ext cx="7849800" cy="2233800"/>
            <a:chOff x="684360" y="3716280"/>
            <a:chExt cx="7849800" cy="2233800"/>
          </a:xfrm>
        </p:grpSpPr>
        <p:sp>
          <p:nvSpPr>
            <p:cNvPr id="189" name="Text Box 9"/>
            <p:cNvSpPr/>
            <p:nvPr/>
          </p:nvSpPr>
          <p:spPr>
            <a:xfrm>
              <a:off x="900000" y="4221000"/>
              <a:ext cx="75610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안전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安全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) :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물적인 위험 및 정신적인 고통을 일으키는 재해로부터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자유롭게 되는 것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안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安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) :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편안할 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전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全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) :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온전할 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757080" y="4076640"/>
              <a:ext cx="7777080" cy="18734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  <a:effectLst>
              <a:outerShdw dist="153753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AutoShape 11"/>
            <p:cNvSpPr/>
            <p:nvPr/>
          </p:nvSpPr>
          <p:spPr>
            <a:xfrm>
              <a:off x="684360" y="3716280"/>
              <a:ext cx="1511280" cy="46044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77" y="0"/>
                  </a:lnTo>
                  <a:lnTo>
                    <a:pt x="21600" y="10800"/>
                  </a:lnTo>
                  <a:lnTo>
                    <a:pt x="1987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  <a:effectLst>
              <a:outerShdw dist="52300" dir="4563564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굴림체"/>
                  <a:ea typeface="굴림체"/>
                </a:rPr>
                <a:t>안  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7:08:41Z</dcterms:created>
  <dc:creator>OWNER</dc:creator>
  <dc:description/>
  <dc:language>en-US</dc:language>
  <cp:lastModifiedBy>user</cp:lastModifiedBy>
  <dcterms:modified xsi:type="dcterms:W3CDTF">2017-01-13T01:03:09Z</dcterms:modified>
  <cp:revision>46</cp:revision>
  <dc:subject/>
  <dc:title>신규 채용자 안전교육</dc:title>
</cp:coreProperties>
</file>